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568D-998E-4854-A812-C70AB711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3AC8-C8E1-42ED-82B0-697594E7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F8DD-5EE2-4041-B5C5-64B20E4C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8149-1EB8-4E93-9049-69F9C59D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9DB3-579E-49E5-9EB2-8207767A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D03E-55FB-4C8D-8AF7-210F2CF3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5157-F6C4-4D9F-B649-032D6102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5DB0-54B8-445F-8CC2-768DB807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FD51-775D-4D84-9D3B-2C0F9BF8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B28D-4B5A-4B8C-9573-D252D708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4DCB-BA08-4B92-BB41-A118BEBF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DF0D-7FE2-4C65-9E59-0B5159CD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7BBC-EE00-45ED-802E-11FE22DD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4CC1-63F0-416A-8E26-167263F6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CA6F-C526-4993-AE68-E04AAD37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E77D-30A8-4B98-9391-B81B610C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8C88-D244-430C-8BBF-C99E55C6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65C2-BB61-4150-ADC6-13A257EE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5A3B-FE31-4F2C-838F-252BE03F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1B1E-54FB-48CB-B7EE-51B201C5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1F5B-2102-4DB2-837B-D8E14228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DD39-30E4-4B62-8003-BFEB80BB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1472-F142-493D-AFA4-C6807D07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2A3D-AB05-479E-BA84-48839974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DDF2-8326-402E-92A2-8A3F6BEF02D8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E401-CFE6-4BB6-AB09-E928A6403E9C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Times New Roman"/>
              </a:rPr>
              <a:t>Program zapobiegania przemocy w środowisku szkolnym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Laurence Mousset-Libe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ICSH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– Institut de Criminologie et Sciences Humaines, Université Rennes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Katowice, 24.02.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Narzędz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abl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krocze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posłuszeńst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gulam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uprzejmość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rupa społecz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rak szacunk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so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g.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Villerbu LM, Bouchard C., Moisan T., (1997), in Charlot B.,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Emin C., Violences à l’école, Etat des savoirs, A. Colin é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M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to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y prac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myślanie scenek sytuacyjnych w małych grupk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scenek sytuacyjnych w grup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scenki sytuacyjnej przez każdą podgrup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pod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stawienie dwóch wymyślonych sytuacji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skusja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orientowanie na zapobieganie, szukanie rozwiązań, mediac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czekiw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ązywanie problemu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czenie medi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nięcie znaczenia słowa „szacunek”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spójnej grupy klasow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zrost zaufania w osobie dorosł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iana perspektywy postrzegania rzeczywistoś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kierunkowanie na dziecko, nie tylko na uczn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, poważanie ze strony ucznió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0-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ventaire de Coopersmith® (ecpa édi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program/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ewczęt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hłop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iejsk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 miejsk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 do sieb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dziewcząt w środowisku rodzin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chłopców w środowisku szko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niejsza różnicę wśród chłopców pomiędzy tym jakimi „są” a jakimi „udają, że są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odporność na stres wśród dorosłych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ISS® (ecpa éditio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 uczestników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ków progra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ytanie subiektywne o poziom odczuwanego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dporność na st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bniża poziom stresu emocjonalnego powodowanego stresującą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trzymuje poziom stresu zawodowego powodowanego wykonywaną prac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ęki współpracy obniża stres powodowany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iom odczuwanego stres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y ten program prewencji spowodował obniżenie stresu zawodowego? (62 odpowiedz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0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odczuwam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potrafię odpowiedzie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8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onkluzj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poczucie własnej wartości wśród dziewcząt i chłopc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na lepsze panowanie nad stresem powodowanym sytuacją zawodową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przyja pracy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dzieciom na lepsze rozumienie własnych zachowa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spiera rozwiązywanie problemów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ja strategie mediacyj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dtrzymuje zaangażowanie każdego uczestnika  przez cały ro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ostałe zauważone efekty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lepszenie atmosfery w klas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padek liczby uczniów powtarzających klas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zrost samodzielności wśród uczni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Lepsza współpraca instytucjonal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kuteczniejsze stosowanie wewnętrznych przepis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rogram wspomagany przez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rekcja zdrowia i spraw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rajowa Federacja Ubezpieczeń Wzajem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FNMF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alité française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dzór Akademick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elle Générale de l’Education Nation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encja w środowisku szkolny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Ados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olejno w lata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2000-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ersp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tyw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ozwój działań na poziomie departamentalnym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szkolenia dla trenerów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gram wybrany w ramach konkursu ogłoszonego przez Ministerstwo ds. Rodzin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pozycja zgłoszenia do programu europejskiego walki z przemocą DAPHNE I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lecenia  dot. zapobieg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lan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działani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efiniowanie konkretn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walifikacja poziomu prewencj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I, II, III –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odpowiednich narzędzi ewalu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rzalność osiągnięt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orientacja strategii prewencyjn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Zalecenia w środowisku szkolnym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zyskanie zgody władz placówk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łączenie do współpracy grona pedagogicznego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weryfikowanie motywacji grona pedagogiczneg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informowanie rodziców o prowadzonych działaniach prewencyj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Dostosowanie podejmowanych działań do wieku ucznió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nikanie jednorazowych interwen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spomaganie działań rozłożonych w czas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astosowanie gier i zabaw interaktyw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ie fazy projekt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Sarth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998-1999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olleg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0-12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zkoła podstawow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8 –10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wierdzenie ewaluacji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pracy w college’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2000-200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2002-2003)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42900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9528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wartość program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ni szkoleniowych wśród grona pedagogicznego college’u (nauczycieli, pedagogów szkolnych, psychologa szkolnego, lekarza, pielęgniarki, pracownika socjalneg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ó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agog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z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 udziałem uczniów, prowadzone przez 2 osoby dorosłe, które ukończyły szkole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e naukowe 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koleni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1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miejętność słuchania i rozmowy z dzieckiem czyli jak prowadzić z szacunkiem rozmowę bez względu na powód rozmow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2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Nasze postrzeganie rzeczywistości poprzez pryzmat codziennej sytuacji zawodowej, instytucja i różne formy przemo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3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zajęć pedagogicznych z uczniam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4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jrzewanie, akty przemocy, syndrom dziecka maltretowanego, przemoc na tle seksua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5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a oraz utworzenie grup eduk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S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tkani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p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agogi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cz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1 : tab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3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4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5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na tle seksualnym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ca interaktywna na bazie wymyślonych scenek sytu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Jasno określone reguły dotyczące przebiegu spotkań (nie kpić, słuchać innych, akceptować zdanie inny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alendarz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ebieg programu podczas trwania roku szkoln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267080"/>
            <a:ext cx="6400800" cy="486000"/>
          </a:xfrm>
          <a:prstGeom prst="rightArrow">
            <a:avLst>
              <a:gd name="adj1" fmla="val 36602"/>
              <a:gd name="adj2" fmla="val 54145"/>
            </a:avLst>
          </a:prstGeom>
          <a:gradFill rotWithShape="0">
            <a:gsLst>
              <a:gs pos="0">
                <a:srgbClr val="00ffcc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05080" y="4581360"/>
            <a:ext cx="6163560" cy="337320"/>
            <a:chOff x="1405080" y="4581360"/>
            <a:chExt cx="6163560" cy="337320"/>
          </a:xfrm>
        </p:grpSpPr>
        <p:sp>
          <p:nvSpPr>
            <p:cNvPr id="114" name=""/>
            <p:cNvSpPr/>
            <p:nvPr/>
          </p:nvSpPr>
          <p:spPr>
            <a:xfrm>
              <a:off x="140508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140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926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808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59400" y="45813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90120" y="4581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28680" y="45813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230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8284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3256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3952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523880" y="3048120"/>
            <a:ext cx="2438640" cy="22860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zkolen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3429000"/>
            <a:ext cx="2819520" cy="30492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otkania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edagogicz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3962520"/>
            <a:ext cx="1219320" cy="2286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aluac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14:42:17Z</dcterms:created>
  <dc:creator>Clinique Criminologique et Psychopathologique</dc:creator>
  <dc:description/>
  <dc:language>en-US</dc:language>
  <cp:lastModifiedBy>Basia_S</cp:lastModifiedBy>
  <dcterms:modified xsi:type="dcterms:W3CDTF">2005-02-15T16:16:53Z</dcterms:modified>
  <cp:revision>55</cp:revision>
  <dc:subject/>
  <dc:title>Présentation générale du projet</dc:title>
</cp:coreProperties>
</file>