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7B1-066D-4795-A9FA-2B63E356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F81-90E1-4881-9355-77EF1FB1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BD6-133A-4F8F-9ACF-46955C83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87C-2A11-40DD-8E90-E7A59228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8B25-BED5-462E-B7B2-6C40C4CE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68AE-8B49-4182-A110-09AE8AB2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0D6F-BFE3-4212-A046-2F10ADB4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D0D8-17B0-4EB3-B95B-423886FE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916D-E3B1-424A-83EE-054A43BD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5C52-B1F2-4EC5-89AC-39B43BE2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CD21-1B6A-4EA4-85C3-C06EFB65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F4B-9AD4-4515-A0E2-9972FF72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334D-6942-4301-9013-08001D62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3AD2-EB1E-413C-A148-A194DD47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0153-0B1E-4E72-B71A-70335E7E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A1E5-13BA-4C85-814B-2001FC4D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0D56-E77A-42A6-8193-C0E72B68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15E-634B-444C-AFA8-140FFF71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BBB-DE90-4520-97BB-1CA3A1A3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BEE-2F4E-461C-91F2-B4DC9875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F77-7D6C-4F50-8D9C-FD7D5C81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28A-CD3B-45AA-B96E-5AFCC4B5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A43-A9F0-4B98-B91E-C5D5AE84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A3C-71A0-4486-8151-1DB53E19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04E7-AF3A-4ED2-AB02-66C4557C2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465D-1D76-4EDE-8998-B8642D688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PROJEKT DZI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Ń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Z  ZAKRESU PREORIENTACJI ZAWODOW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KLASY INTEGRACYJN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CZNIK 2003 – 2006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)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221304"/>
                </a:solidFill>
                <a:latin typeface="Tahoma"/>
              </a:rPr>
              <a:t>opracował: mgr Łukasz Cieśl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720" y="685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523880"/>
            <a:ext cx="6858000" cy="459720"/>
            <a:chOff x="1219320" y="1523880"/>
            <a:chExt cx="6858000" cy="459720"/>
          </a:xfrm>
        </p:grpSpPr>
        <p:sp>
          <p:nvSpPr>
            <p:cNvPr id="120" name=""/>
            <p:cNvSpPr/>
            <p:nvPr/>
          </p:nvSpPr>
          <p:spPr>
            <a:xfrm>
              <a:off x="1600200" y="15238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st zd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iedok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zo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6765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4952880"/>
            <a:ext cx="6324480" cy="825480"/>
            <a:chOff x="1219320" y="4952880"/>
            <a:chExt cx="6324480" cy="825480"/>
          </a:xfrm>
        </p:grpSpPr>
        <p:sp>
          <p:nvSpPr>
            <p:cNvPr id="123" name=""/>
            <p:cNvSpPr/>
            <p:nvPr/>
          </p:nvSpPr>
          <p:spPr>
            <a:xfrm>
              <a:off x="1752480" y="49528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343400"/>
            <a:ext cx="6324480" cy="459720"/>
            <a:chOff x="1219320" y="4343400"/>
            <a:chExt cx="6324480" cy="459720"/>
          </a:xfrm>
        </p:grpSpPr>
        <p:sp>
          <p:nvSpPr>
            <p:cNvPr id="126" name=""/>
            <p:cNvSpPr/>
            <p:nvPr/>
          </p:nvSpPr>
          <p:spPr>
            <a:xfrm>
              <a:off x="1676520" y="4343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cieczki krajoznawczo -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urystyczne.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4956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3581280"/>
            <a:ext cx="6933960" cy="825480"/>
            <a:chOff x="1219320" y="3581280"/>
            <a:chExt cx="6933960" cy="825480"/>
          </a:xfrm>
        </p:grpSpPr>
        <p:sp>
          <p:nvSpPr>
            <p:cNvPr id="129" name=""/>
            <p:cNvSpPr/>
            <p:nvPr/>
          </p:nvSpPr>
          <p:spPr>
            <a:xfrm>
              <a:off x="1676520" y="3581280"/>
              <a:ext cx="647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dukacja prozdrowotna -  analiza stanu zdrow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3733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19320" y="2209680"/>
            <a:ext cx="6553080" cy="1557000"/>
            <a:chOff x="1219320" y="2209680"/>
            <a:chExt cx="6553080" cy="1557000"/>
          </a:xfrm>
        </p:grpSpPr>
        <p:sp>
          <p:nvSpPr>
            <p:cNvPr id="132" name=""/>
            <p:cNvSpPr/>
            <p:nvPr/>
          </p:nvSpPr>
          <p:spPr>
            <a:xfrm>
              <a:off x="1600200" y="220968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dzielanie informacji na temat dzi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jących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szkole 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zainteresow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z odbyw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ych się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zalekcyj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2362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235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znajemy zaw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19320"/>
            <a:ext cx="228600" cy="228600"/>
          </a:xfrm>
          <a:prstGeom prst="ellipse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1752480"/>
            <a:ext cx="8001000" cy="2000520"/>
            <a:chOff x="1143000" y="1752480"/>
            <a:chExt cx="8001000" cy="2000520"/>
          </a:xfrm>
        </p:grpSpPr>
        <p:sp>
          <p:nvSpPr>
            <p:cNvPr id="137" name=""/>
            <p:cNvSpPr/>
            <p:nvPr/>
          </p:nvSpPr>
          <p:spPr>
            <a:xfrm>
              <a:off x="1523880" y="1752480"/>
              <a:ext cx="762012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sp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„Dni Otwartych Gimnazjum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43000" y="2514600"/>
            <a:ext cx="8534520" cy="1295280"/>
            <a:chOff x="1143000" y="2514600"/>
            <a:chExt cx="8534520" cy="1295280"/>
          </a:xfrm>
        </p:grpSpPr>
        <p:sp>
          <p:nvSpPr>
            <p:cNvPr id="140" name=""/>
            <p:cNvSpPr/>
            <p:nvPr/>
          </p:nvSpPr>
          <p:spPr>
            <a:xfrm>
              <a:off x="1600200" y="2514600"/>
              <a:ext cx="8077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arsztaty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cne i  słabe stron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wiązywanie konfliktów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miejętne gospodarowanie czasem wolny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ęzyk, gesty i słowa – jak się porozumiewam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filaktyka uzależnień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Jak b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kreatywnym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743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44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westionariusz „Po nitce do kłębka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143000" y="1981080"/>
            <a:ext cx="6705720" cy="1191240"/>
            <a:chOff x="1143000" y="1981080"/>
            <a:chExt cx="6705720" cy="1191240"/>
          </a:xfrm>
        </p:grpSpPr>
        <p:sp>
          <p:nvSpPr>
            <p:cNvPr id="147" name=""/>
            <p:cNvSpPr/>
            <p:nvPr/>
          </p:nvSpPr>
          <p:spPr>
            <a:xfrm>
              <a:off x="1143000" y="2133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1981080"/>
              <a:ext cx="632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danie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astawieni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ucznió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  konieczności podjęcia decyzji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 wyborze drogi życiow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43000" y="3505320"/>
            <a:ext cx="7315200" cy="825480"/>
            <a:chOff x="1143000" y="3505320"/>
            <a:chExt cx="7315200" cy="825480"/>
          </a:xfrm>
        </p:grpSpPr>
        <p:sp>
          <p:nvSpPr>
            <p:cNvPr id="150" name=""/>
            <p:cNvSpPr/>
            <p:nvPr/>
          </p:nvSpPr>
          <p:spPr>
            <a:xfrm>
              <a:off x="1600200" y="35053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wyjścia do zakładów pracy, przedsiębiorstw, fi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36576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43000" y="4419720"/>
            <a:ext cx="7315200" cy="825480"/>
            <a:chOff x="1143000" y="4419720"/>
            <a:chExt cx="7315200" cy="825480"/>
          </a:xfrm>
        </p:grpSpPr>
        <p:sp>
          <p:nvSpPr>
            <p:cNvPr id="153" name=""/>
            <p:cNvSpPr/>
            <p:nvPr/>
          </p:nvSpPr>
          <p:spPr>
            <a:xfrm>
              <a:off x="1600200" y="44197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zapraszanie ludzi posiadających ciekawe zawo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43000" y="5638680"/>
            <a:ext cx="7010280" cy="825480"/>
            <a:chOff x="1143000" y="5638680"/>
            <a:chExt cx="7010280" cy="825480"/>
          </a:xfrm>
        </p:grpSpPr>
        <p:sp>
          <p:nvSpPr>
            <p:cNvPr id="156" name=""/>
            <p:cNvSpPr/>
            <p:nvPr/>
          </p:nvSpPr>
          <p:spPr>
            <a:xfrm>
              <a:off x="1600200" y="563868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na Warsztaty Terapii Zaję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791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59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k Poradnictwa Zawodowego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43000" y="1981080"/>
            <a:ext cx="6705720" cy="825480"/>
            <a:chOff x="1143000" y="1981080"/>
            <a:chExt cx="6705720" cy="825480"/>
          </a:xfrm>
        </p:grpSpPr>
        <p:sp>
          <p:nvSpPr>
            <p:cNvPr id="162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198108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mocja szkół ponadgimnazjalnych, zawodów na tablicy informacyjn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124080"/>
            <a:ext cx="7086600" cy="2931480"/>
            <a:chOff x="1143000" y="3124080"/>
            <a:chExt cx="7086600" cy="2931480"/>
          </a:xfrm>
        </p:grpSpPr>
        <p:sp>
          <p:nvSpPr>
            <p:cNvPr id="165" name="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124080"/>
              <a:ext cx="6629400" cy="29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omunikacja interpersonalna „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ertywność – sztuka bycia sobą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autoprezentacji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być dobrym pracowniki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zec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1295280"/>
            <a:ext cx="6934320" cy="825480"/>
            <a:chOff x="1143000" y="1295280"/>
            <a:chExt cx="6934320" cy="825480"/>
          </a:xfrm>
        </p:grpSpPr>
        <p:sp>
          <p:nvSpPr>
            <p:cNvPr id="169" name=""/>
            <p:cNvSpPr/>
            <p:nvPr/>
          </p:nvSpPr>
          <p:spPr>
            <a:xfrm>
              <a:off x="1143000" y="1447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295280"/>
              <a:ext cx="655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3000" y="2286000"/>
            <a:ext cx="6705720" cy="825480"/>
            <a:chOff x="1143000" y="2286000"/>
            <a:chExt cx="6705720" cy="825480"/>
          </a:xfrm>
        </p:grpSpPr>
        <p:sp>
          <p:nvSpPr>
            <p:cNvPr id="172" name=""/>
            <p:cNvSpPr/>
            <p:nvPr/>
          </p:nvSpPr>
          <p:spPr>
            <a:xfrm>
              <a:off x="1143000" y="24382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228600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-  wiedza uczniów o szkolnictwie ponadgimnazjalny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19320" y="4419720"/>
            <a:ext cx="7238880" cy="459720"/>
            <a:chOff x="1219320" y="4419720"/>
            <a:chExt cx="7238880" cy="459720"/>
          </a:xfrm>
        </p:grpSpPr>
        <p:sp>
          <p:nvSpPr>
            <p:cNvPr id="175" name=""/>
            <p:cNvSpPr/>
            <p:nvPr/>
          </p:nvSpPr>
          <p:spPr>
            <a:xfrm>
              <a:off x="1600200" y="441972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do Urzędu Pracy 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19320" y="5257800"/>
            <a:ext cx="7162560" cy="825480"/>
            <a:chOff x="1219320" y="5257800"/>
            <a:chExt cx="7162560" cy="825480"/>
          </a:xfrm>
        </p:grpSpPr>
        <p:sp>
          <p:nvSpPr>
            <p:cNvPr id="178" name=""/>
            <p:cNvSpPr/>
            <p:nvPr/>
          </p:nvSpPr>
          <p:spPr>
            <a:xfrm>
              <a:off x="1523880" y="525780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a „Dni otwarte sz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nadgimnazjal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5410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19320" y="3352680"/>
            <a:ext cx="6095880" cy="825480"/>
            <a:chOff x="1219320" y="3352680"/>
            <a:chExt cx="6095880" cy="825480"/>
          </a:xfrm>
        </p:grpSpPr>
        <p:sp>
          <p:nvSpPr>
            <p:cNvPr id="181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3526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- wybór konkretnej szkoły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raz profi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2895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9320" y="762120"/>
            <a:ext cx="6933960" cy="5176440"/>
            <a:chOff x="1219320" y="762120"/>
            <a:chExt cx="6933960" cy="5176440"/>
          </a:xfrm>
        </p:grpSpPr>
        <p:sp>
          <p:nvSpPr>
            <p:cNvPr id="185" name=""/>
            <p:cNvSpPr/>
            <p:nvPr/>
          </p:nvSpPr>
          <p:spPr>
            <a:xfrm>
              <a:off x="1219320" y="9144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762120"/>
              <a:ext cx="6629400" cy="51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radzenia sobie ze stres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ezpieczeństwo i higiena pracy 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ie bój się pierwszej pracy. Przygotowanie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mow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z pracodawcą“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ystem szkolnictwa ponadgimnazjalneg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 rynek – duża szansa.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Ćwiczenia przedsiębiorczości”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dobrze napisać podanie, list motywacyjny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 CV?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zara” Polska – działanie rynku pracy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G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ÓWNY CEL PROGRAMU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zygotowanie uczniów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adomego wyboru szk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y oraz przys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o zawodu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 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ZAWÓD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TRZECI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DECYZ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PIERWSZY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1600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zdolności                       i umiejętności uczniów, mocnych                   oraz słabych s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ywacja do rozwijania zainteresowań            i umiejęt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6705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cja zdrowego stylu życia.                Analiza stanu zdrow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1447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świadamianie związku między osobowością (charakterem) a wyborem zawo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27672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poszerzania wiedzy szkolnej i os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nia lepszych wynikó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 n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DRUGI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różnymi zawod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wodów poszukiwanych  na rynku polskim oraz 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26708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poziomu atrakcyjności różnych zawodów                       i specjal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5335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owanie o wymaganiach psychofizycznych koniecznych do podjęcia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27672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ybliżanie pojęć związanych z pracą zawodową (środowisko pracy, narzędzia pracy, zadania i czynności itp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8769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pirowanie uczniów do myślenia               o przyszłości i planowania swojej karie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wodowej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zwój umie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i komunikacji, autoprezentacji oraz zachowań asertywnych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TRZECI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nie uczniów z czynnikami warunkującymi trafną decyzję  wyboru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nabyciu umiejętności radzenia sobie ze stresem                       oraz postępowania  w sytuacjach trud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64832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systemem szkolnictwa ponadgimnazjalnego                  (typy szkół oraz prof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sad rekrutacji, wymagań egzamin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owanie wy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a „Dni Otwar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uzyskiwania oraz podnoszenia kwalifikacji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4:04Z</dcterms:created>
  <dc:creator>katyja</dc:creator>
  <dc:description/>
  <dc:language>en-US</dc:language>
  <cp:lastModifiedBy>Alicja</cp:lastModifiedBy>
  <dcterms:modified xsi:type="dcterms:W3CDTF">2004-11-18T08:18:34Z</dcterms:modified>
  <cp:revision>22</cp:revision>
  <dc:subject/>
  <dc:title>PROJEKT DZIAŁAŃ Z  ZAKRESU PREORIENTACJI ZAWODOWEJ KLASY INTEGRACYJNEJ (ROCZNIK 2003 – 2006) </dc:title>
</cp:coreProperties>
</file>