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76505-6387-4471-90B4-41B5CDD7B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4E3B1-B26F-4855-A5B8-26E1510B9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CEA72-DD95-46D3-8AC8-A741A9F64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97CA8-A533-49B6-9B57-640254ED30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3C21FE-2009-40E8-9F7A-1AE8BCDF6A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BF859C-BA69-4603-88E9-3F9B1A1979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CFBC74-6B9D-4CFF-9CB6-6D8D4C6264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21D1FB-A95D-4F72-950B-70A96A8FEB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6AB572-456C-495E-926F-DE6AA373EA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826F46-AF2B-49AE-9184-0EC221997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7A288-87EC-477A-8630-514D13B29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B2229-723C-44CB-8992-59BFD737E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E0559-D541-4EEE-AC54-8855B9EAB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6C8DD7-9003-4F8A-BEED-DBD410617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5CEF1B-7429-473D-8859-36D90B6A3A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383814-1817-4E32-A6EE-59C283B142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245E70-91CC-493D-A4B6-406E9AD000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89381-E66B-4CBC-96CD-263BE43A4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A16D4-8EC6-4ACF-B3A7-5C393FB15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DD58E-4886-4D3A-BF41-8F333F3D6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0B05F-AD8E-4190-8953-E96151583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B7E19-A53C-43F6-967F-2763189EB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60209-D391-4CAA-8D06-4697705BC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88C8D-FFB7-493F-87B1-46C6420026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5BB23-C694-4E15-8C19-FB441096CC99}" type="slidenum">
              <a:rPr b="1" lang="fr-FR"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A39C2-348B-4F6B-B3E3-95C313775FFF}" type="slidenum">
              <a:rPr b="1" lang="fr-FR"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479600" y="26272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95" name=""/>
          <p:cNvGraphicFramePr/>
          <p:nvPr/>
        </p:nvGraphicFramePr>
        <p:xfrm>
          <a:off x="1409760" y="-304920"/>
          <a:ext cx="6362640" cy="7620120"/>
        </p:xfrm>
        <a:graphic>
          <a:graphicData uri="http://schemas.openxmlformats.org/presentationml/2006/ole">
            <p:oleObj progId="Word.Document.12" r:id="rId1" spid="">
              <p:embed/>
              <p:pic>
                <p:nvPicPr>
                  <p:cNvPr id="96" name="" descr=""/>
                  <p:cNvPicPr/>
                  <p:nvPr/>
                </p:nvPicPr>
                <p:blipFill>
                  <a:blip r:embed="rId2"/>
                  <a:stretch/>
                </p:blipFill>
                <p:spPr>
                  <a:xfrm>
                    <a:off x="1409760" y="-304920"/>
                    <a:ext cx="6362640" cy="762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Lycée d’Enseignement Professionnel (LEP)</a:t>
            </a:r>
            <a:endParaRPr b="1" lang="en-US" sz="3200" spc="-1" strike="noStrike">
              <a:solidFill>
                <a:srgbClr val="9900cc"/>
              </a:solidFill>
              <a:latin typeface="Arial"/>
            </a:endParaRPr>
          </a:p>
        </p:txBody>
      </p:sp>
      <p:sp>
        <p:nvSpPr>
          <p:cNvPr id="114" name="PlaceHolder 1"/>
          <p:cNvSpPr>
            <a:spLocks noGrp="1"/>
          </p:cNvSpPr>
          <p:nvPr>
            <p:ph/>
          </p:nvPr>
        </p:nvSpPr>
        <p:spPr>
          <a:xfrm>
            <a:off x="838080" y="2742840"/>
            <a:ext cx="7693200" cy="388620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élèves sont admis sur dossier d’orientation (notes et appréciation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À la sortie du collège pour un certificat d’aptitude professionnelle (CAP) ou un brevet d’études professionnelles (BEP) en 2 an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ès un BEP ou un CAP pour  un baccalauréat professionnel ou un diplôme de technicien de la spécialité choisi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Unités Pédagogiques d’Intégration en Lycée Professionnel (UPIL)</a:t>
            </a:r>
            <a:endParaRPr b="1" lang="en-US" sz="3200" spc="-1" strike="noStrike">
              <a:solidFill>
                <a:srgbClr val="9900cc"/>
              </a:solidFill>
              <a:latin typeface="Arial"/>
            </a:endParaRPr>
          </a:p>
        </p:txBody>
      </p:sp>
      <p:sp>
        <p:nvSpPr>
          <p:cNvPr id="116"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UPITech (Unité Pédagogique d’Intégration par la Technologie)</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rPr>
              <a:t>Public concerné : </a:t>
            </a:r>
            <a:r>
              <a:rPr b="0" lang="fr-FR" sz="2000" spc="-1" strike="noStrike">
                <a:solidFill>
                  <a:srgbClr val="000000"/>
                </a:solidFill>
                <a:latin typeface="Arial"/>
              </a:rPr>
              <a:t>adolescents de 16 à 18 ans handicapés ou en très grande difficulté venant d’IME, d’UPI, de SEGPA ou de collège, orientés par une commission d’éducation spécia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rPr>
              <a:t>Objectifs :</a:t>
            </a:r>
            <a:r>
              <a:rPr b="0" lang="fr-FR" sz="2000" spc="-1" strike="noStrike">
                <a:solidFill>
                  <a:srgbClr val="000000"/>
                </a:solidFill>
                <a:latin typeface="Arial"/>
              </a:rPr>
              <a:t> développer une meilleure communication et autonomie en vue de leur insertion sociale et professionnel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rPr>
              <a:t>Contenus :</a:t>
            </a:r>
            <a:r>
              <a:rPr b="0" lang="fr-FR" sz="2000" spc="-1" strike="noStrike">
                <a:solidFill>
                  <a:srgbClr val="000000"/>
                </a:solidFill>
                <a:latin typeface="Arial"/>
              </a:rPr>
              <a:t> découverte de champs professionnels, stages en entreprises, éducation civique, juridique et sociale, accompagnement éducatif spécialisé.</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UPIL (suite)</a:t>
            </a:r>
            <a:endParaRPr b="1" lang="en-US" sz="3600" spc="-1" strike="noStrike">
              <a:solidFill>
                <a:srgbClr val="9900cc"/>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STH (Professionnalisation Intégration Socialisation des Trisomiques 21 et des Handicapés mentaux)</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ublic concerné </a:t>
            </a:r>
            <a:r>
              <a:rPr b="0" lang="en-US" sz="2000" spc="-1" strike="noStrike">
                <a:solidFill>
                  <a:srgbClr val="000000"/>
                </a:solidFill>
                <a:latin typeface="Arial"/>
              </a:rPr>
              <a:t>: jeunes handicapés par une déficience intellectuelle dont trisomie 21, âgés de 16 à 20 ans ayant un minimum d’autonomie. Recrutement sur entretien et dossier.</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Objectifs :</a:t>
            </a:r>
            <a:r>
              <a:rPr b="0" lang="en-US" sz="2000" spc="-1" strike="noStrike">
                <a:solidFill>
                  <a:srgbClr val="000000"/>
                </a:solidFill>
                <a:latin typeface="Arial"/>
              </a:rPr>
              <a:t> maîtriser un ensemble de gestes professionnels,négocier un contrat de travail en milieu ordinaire ou sur un poste adapté ou en milieu protégé</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ntenus :</a:t>
            </a:r>
            <a:r>
              <a:rPr b="0" lang="en-US" sz="2000" spc="-1" strike="noStrike">
                <a:solidFill>
                  <a:srgbClr val="000000"/>
                </a:solidFill>
                <a:latin typeface="Arial"/>
              </a:rPr>
              <a:t> enseignement professionnel dans les ateliers du lycée, sur des chantiers, en entreprise. Enseignement général, activités socioprofessionnel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UPIL (suite)</a:t>
            </a:r>
            <a:endParaRPr b="1" lang="en-US" sz="3600" spc="-1" strike="noStrike">
              <a:solidFill>
                <a:srgbClr val="9900cc"/>
              </a:solidFill>
              <a:latin typeface="Arial"/>
            </a:endParaRPr>
          </a:p>
        </p:txBody>
      </p:sp>
      <p:sp>
        <p:nvSpPr>
          <p:cNvPr id="120" name="PlaceHolder 1"/>
          <p:cNvSpPr>
            <a:spLocks noGrp="1"/>
          </p:cNvSpPr>
          <p:nvPr>
            <p:ph/>
          </p:nvPr>
        </p:nvSpPr>
        <p:spPr>
          <a:xfrm>
            <a:off x="838080" y="3048120"/>
            <a:ext cx="7693200" cy="36576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ositif d’Insertion Professionnelle et Sociale pour Adolescents Autistes</a:t>
            </a:r>
            <a:endParaRPr b="0" lang="en-US" sz="1800" spc="-1" strike="noStrike">
              <a:solidFill>
                <a:srgbClr val="000000"/>
              </a:solidFill>
              <a:latin typeface="Arial"/>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ublic concerné </a:t>
            </a:r>
            <a:r>
              <a:rPr b="0" lang="en-US" sz="1800" spc="-1" strike="noStrike">
                <a:solidFill>
                  <a:srgbClr val="000000"/>
                </a:solidFill>
                <a:latin typeface="Arial"/>
              </a:rPr>
              <a:t>: jeunes de plus de 16 ans atteints d’autism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bjectifs :</a:t>
            </a:r>
            <a:r>
              <a:rPr b="0" lang="en-US" sz="1800" spc="-1" strike="noStrike">
                <a:solidFill>
                  <a:srgbClr val="000000"/>
                </a:solidFill>
                <a:latin typeface="Arial"/>
              </a:rPr>
              <a:t> permettre d’acquérir des compétences de type professionnel,un niveau d’autonomie et de capacités sociales, une intégration partielle ou totale en milieu ordinaire ou protégé.</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tenus :</a:t>
            </a:r>
            <a:r>
              <a:rPr b="0" lang="en-US" sz="1800" spc="-1" strike="noStrike">
                <a:solidFill>
                  <a:srgbClr val="000000"/>
                </a:solidFill>
                <a:latin typeface="Arial"/>
              </a:rPr>
              <a:t> Programme Educatif Individualisé (PEI), enseignement général en tutorat,sensibilisation au monde du travail, présentation et repérage des métiers, développement des compétences sociales et d’autonomi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UPIL (suite)</a:t>
            </a:r>
            <a:endParaRPr b="1" lang="en-US" sz="3600" spc="-1" strike="noStrike">
              <a:solidFill>
                <a:srgbClr val="9900cc"/>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ertion Professionnelle de jeunes atteints d’un Handicap Moteur</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ublic concerné :</a:t>
            </a:r>
            <a:r>
              <a:rPr b="0" lang="en-US" sz="1800" spc="-1" strike="noStrike">
                <a:solidFill>
                  <a:srgbClr val="000000"/>
                </a:solidFill>
                <a:latin typeface="Arial"/>
              </a:rPr>
              <a:t> jeunes de 16 à 25 ans porteurs d’un handicap moteur, ayant suivi une scolarité en collèg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bjectifs</a:t>
            </a:r>
            <a:r>
              <a:rPr b="0" lang="en-US" sz="1800" spc="-1" strike="noStrike">
                <a:solidFill>
                  <a:srgbClr val="000000"/>
                </a:solidFill>
                <a:latin typeface="Arial"/>
              </a:rPr>
              <a:t>: déterminer un projet professionnel et de vie compatible avec le handicap, acquérir des savoir faire et des savoir être professionnels, rechercher et négocier un contrat de travail à temps plein ou partiel en milieu ordinaire ou protégé.</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tenus:</a:t>
            </a:r>
            <a:r>
              <a:rPr b="0" lang="en-US" sz="1800" spc="-1" strike="noStrike">
                <a:solidFill>
                  <a:srgbClr val="000000"/>
                </a:solidFill>
                <a:latin typeface="Arial"/>
              </a:rPr>
              <a:t> enseignement général,détermination et validation d’un projet professionnel et d’un projet de vie, enseignement professionnel, activités socioprofessionnelles. Alternance entre le lycée et l’entrepri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Groupement d’Etablissements (GRETA)</a:t>
            </a:r>
            <a:endParaRPr b="1" lang="en-US" sz="3200" spc="-1" strike="noStrike">
              <a:solidFill>
                <a:srgbClr val="9900cc"/>
              </a:solidFill>
              <a:latin typeface="Arial"/>
            </a:endParaRPr>
          </a:p>
        </p:txBody>
      </p:sp>
      <p:sp>
        <p:nvSpPr>
          <p:cNvPr id="124" name="PlaceHolder 1"/>
          <p:cNvSpPr>
            <a:spLocks noGrp="1"/>
          </p:cNvSpPr>
          <p:nvPr>
            <p:ph/>
          </p:nvPr>
        </p:nvSpPr>
        <p:spPr>
          <a:xfrm>
            <a:off x="838080" y="2361960"/>
            <a:ext cx="7693200" cy="388620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GRETA est un groupement constitué par convention entre des établissements scolaires publ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exerce un rôle de formation continue auprès de jeunes et d’adultes en difficulté, un rôle d’accueil, d’information, d’orientation, d’accompagnement dans la démarche d’inser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formations sont  destinées aux chômeurs adultes et à différents publics spécifiques (handicapés, détenus illettrés, réfugiés statutaire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Etablissement Régional d’Enseignement Adapté (EREA)</a:t>
            </a:r>
            <a:endParaRPr b="1" lang="en-US" sz="3200" spc="-1" strike="noStrike">
              <a:solidFill>
                <a:srgbClr val="9900cc"/>
              </a:solidFill>
              <a:latin typeface="Arial"/>
            </a:endParaRPr>
          </a:p>
        </p:txBody>
      </p:sp>
      <p:sp>
        <p:nvSpPr>
          <p:cNvPr id="126"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REA accueille des jeunes en difficulté scolaire et/ou sociale ou en situation de handicap qui ne peuvent fréquenter les établissements ordinaires. Il dispose d’un internat éducati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f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rientation, formation et insertion professionnelle: qualification professionnelle , insertion sociale et exercice de la citoyenneté,vocation éducativ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nel d’enseigneme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 chef de travaux encadrant la formation professionnelle,des enseignants spécialisés, des professeurs de lycées et collèg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nel éducati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 éducateur principal,des éducateurs en internat, infirmier, assistant social, psychologu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entre de Formation d’Apprentis (CFA)</a:t>
            </a:r>
            <a:endParaRPr b="1" lang="en-US" sz="3200" spc="-1" strike="noStrike">
              <a:solidFill>
                <a:srgbClr val="9900cc"/>
              </a:solidFill>
              <a:latin typeface="Arial"/>
            </a:endParaRPr>
          </a:p>
        </p:txBody>
      </p:sp>
      <p:sp>
        <p:nvSpPr>
          <p:cNvPr id="128" name="PlaceHolder 1"/>
          <p:cNvSpPr>
            <a:spLocks noGrp="1"/>
          </p:cNvSpPr>
          <p:nvPr>
            <p:ph/>
          </p:nvPr>
        </p:nvSpPr>
        <p:spPr>
          <a:xfrm>
            <a:off x="914400" y="313344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CFA est un organisme de formation en direction de jeunes travailleurs, leur permettant d’acquérir une qualification sanctionnée par un diplôme. Le jeune bénéficie d’une expérience en entreprise avec une formation technologique et pratiqu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jeune apprenti doit être âgé d’au moins 16 ans  et de 25 ans au plus à son entrée en apprentiss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entre de Formation d’Apprentis Spécialisé (CFAS)</a:t>
            </a:r>
            <a:endParaRPr b="1" lang="en-US" sz="3200" spc="-1" strike="noStrike">
              <a:solidFill>
                <a:srgbClr val="9900cc"/>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c accueilli</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unes de 16 à 20 ans en difficulté scolaire et comportementale bénéficiant d’une notification de la CD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unes de 20 à 26 ans bénéficiant d’une notification de la commission technique d’orientation et de reclassement  professionnel (COTOREP)</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ion:</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éparer le jeune à l’apprentissage,lui offrir une formation qualifiante et une formation générale et technologique adaptées, l’accompagner dans sa formation, permettre et faciliter une intégration dans le milieu du trava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9900cc"/>
                </a:solidFill>
                <a:latin typeface="Arial"/>
              </a:rPr>
              <a:t>Institut médico-éducatif (IME)</a:t>
            </a:r>
            <a:endParaRPr b="1" lang="en-US" sz="3600" spc="-1" strike="noStrike">
              <a:solidFill>
                <a:srgbClr val="9900cc"/>
              </a:solidFill>
              <a:latin typeface="Arial"/>
            </a:endParaRPr>
          </a:p>
        </p:txBody>
      </p:sp>
      <p:sp>
        <p:nvSpPr>
          <p:cNvPr id="132" name="PlaceHolder 1"/>
          <p:cNvSpPr>
            <a:spLocks noGrp="1"/>
          </p:cNvSpPr>
          <p:nvPr>
            <p:ph/>
          </p:nvPr>
        </p:nvSpPr>
        <p:spPr>
          <a:xfrm>
            <a:off x="914400" y="2438280"/>
            <a:ext cx="76932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IME prend en charge des jeunes de 3 à 20 ans présentant une déficience intellectuelle, orientés par la CDES. Le financement est assuré par la sécurité social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prise en charge comprend: l’accompagnement et l’implication de la famille,les soins et les rééducations,la surveillance médicale,l’enseignement et les actions éducativ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ME peut se composer d’un institut médico pédagogique (IMP) pour les jeunes de 3 à 14 ans, d’un institut médico professionnel (IMPro) pour les jeunes de 14 à 20 ans, d’un service d’éducation spéciale et de soins à domicile (SESSAD) pour les jeunes intégrés dans les établissements scolai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SOMMAIRE</a:t>
            </a:r>
            <a:endParaRPr b="1" lang="en-US" sz="3600" spc="-1" strike="noStrike">
              <a:solidFill>
                <a:srgbClr val="9900cc"/>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mission d’ Education Spécial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DE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position de la CDE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CP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ection d’Enseignement Général et Professionnel Adapté (SEGP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ité Pédagogique d’Intégration (UPI)</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ycée d’Enseignement Professionnel (LEP)</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ités Pédagogiques d’Intégration en Lycée Professionnel (UPIL)</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Groupement d’Etablissements (GRET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tablissement Régional d’Enseignement Adapté (ERE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ntre de Formation d’Apprentis (CF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ntre de Formation d’Apprentis Spécialisé (CFA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stitut médico-éducatif (IM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Institut médico-professionnel (IMPr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9900cc"/>
                </a:solidFill>
                <a:latin typeface="Arial"/>
              </a:rPr>
              <a:t>Institut médico-professionnel (IMPro)</a:t>
            </a:r>
            <a:endParaRPr b="1" lang="en-US" sz="3200" spc="-1" strike="noStrike">
              <a:solidFill>
                <a:srgbClr val="9900cc"/>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IMPro est un établissement d’initiation et de première formation professionnelle qui s’adresse aux jeunes de 14 à 20 ans présentant une déficience intellectuelle, et venant de l’I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formation professionnelle est réalisée en liaison avec le milieu professionnel (stages en entreprise),dans les ateliers professionnels adaptés sous la conduite d’un éducateur spécialisé techn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OMMISSIONS D’EDUCATION SPECIALE</a:t>
            </a:r>
            <a:endParaRPr b="1" lang="en-US" sz="3200" spc="-1" strike="noStrike">
              <a:solidFill>
                <a:srgbClr val="9900cc"/>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ES</a:t>
            </a:r>
            <a:endParaRPr b="0" lang="en-US" sz="2400" spc="-1" strike="noStrike">
              <a:solidFill>
                <a:srgbClr val="000000"/>
              </a:solidFill>
              <a:latin typeface="Arial"/>
            </a:endParaRPr>
          </a:p>
          <a:p>
            <a:pPr lvl="4" marL="2057400" indent="-228600">
              <a:lnSpc>
                <a:spcPct val="80000"/>
              </a:lnSpc>
              <a:spcBef>
                <a:spcPts val="400"/>
              </a:spcBef>
              <a:buClr>
                <a:srgbClr val="00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ission Départementale de l’Education Spéciale</a:t>
            </a:r>
            <a:endParaRPr b="0" lang="en-US" sz="16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PE</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ssion de Circonscription Préélémentaire et Elémentair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SD</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ssion de Circonscription du Second Degré</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DES Commission Départementale de l’Education Spéciale</a:t>
            </a:r>
            <a:endParaRPr b="1" lang="en-US" sz="3200" spc="-1" strike="noStrike">
              <a:solidFill>
                <a:srgbClr val="9900cc"/>
              </a:solidFill>
              <a:latin typeface="Arial"/>
            </a:endParaRPr>
          </a:p>
        </p:txBody>
      </p:sp>
      <p:sp>
        <p:nvSpPr>
          <p:cNvPr id="102" name="PlaceHolder 1"/>
          <p:cNvSpPr>
            <a:spLocks noGrp="1"/>
          </p:cNvSpPr>
          <p:nvPr>
            <p:ph/>
          </p:nvPr>
        </p:nvSpPr>
        <p:spPr>
          <a:xfrm>
            <a:off x="838080" y="2514240"/>
            <a:ext cx="7693200" cy="372420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DES est une instance départementale d’aide aux enfants et adolescents de la naissance jusqu’à l’âge de 20 a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les oriente vers les établissements d’éducation spéciale, attribue l’allocation d’éducation spéciale et la carte d’invalidité.</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enfant reconnu handicapé doit pouvoir bénéficier d’éducation spéciale gratuite qui assure des actions médicales, paramédicales, sociales, pédagogiques et psychologiq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omposition de la CDES: une assemblée générale de 12 membres, un secrétariat permanent et une équipe technique</a:t>
            </a:r>
            <a:endParaRPr b="1" lang="en-US" sz="3200" spc="-1" strike="noStrike">
              <a:solidFill>
                <a:srgbClr val="9900cc"/>
              </a:solidFill>
              <a:latin typeface="Arial"/>
            </a:endParaRPr>
          </a:p>
        </p:txBody>
      </p:sp>
      <p:sp>
        <p:nvSpPr>
          <p:cNvPr id="104" name="PlaceHolder 1"/>
          <p:cNvSpPr>
            <a:spLocks noGrp="1"/>
          </p:cNvSpPr>
          <p:nvPr>
            <p:ph/>
          </p:nvPr>
        </p:nvSpPr>
        <p:spPr>
          <a:xfrm>
            <a:off x="838080" y="2361960"/>
            <a:ext cx="7925040" cy="42670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assemblée générale </a:t>
            </a:r>
            <a:r>
              <a:rPr b="1" lang="en-US" sz="1200" spc="-1" strike="noStrike">
                <a:solidFill>
                  <a:srgbClr val="000000"/>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e est composée de 12 membre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 l’Education Nationale</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 la Direction Départementale des Affaires Sanitaires et Sociales (DDAS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s usagers (association de parents d’enfants handicapés, association de parents d’élèves et représentants des établissements spécialisé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s organismes d’assurance maladie et des caisses d’allocations familiale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e secrétariat permanent:</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 tâch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ecrétariat administratif</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e au point des dossier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ueil et information des famille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équipe techniqu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e étudie les cas soumis à la commission</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e se réunit une fois par semaine, transmet ses avis à la commission départementa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CPE (commission de circonscription préscolaire et élémentaire)</a:t>
            </a:r>
            <a:br>
              <a:rPr sz="3200"/>
            </a:br>
            <a:r>
              <a:rPr b="1" lang="en-US" sz="3200" spc="-1" strike="noStrike">
                <a:solidFill>
                  <a:srgbClr val="9900cc"/>
                </a:solidFill>
                <a:latin typeface="Arial"/>
              </a:rPr>
              <a:t>CCSD (commission de circonscription du second degré)</a:t>
            </a:r>
            <a:endParaRPr b="1" lang="en-US" sz="3200" spc="-1" strike="noStrike">
              <a:solidFill>
                <a:srgbClr val="9900cc"/>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CPE est composée de 8 membr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est présidée par l’Inspecteur de l’Education Nationale de la circonscription et se réunit au moins une fois par moi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donne son avis sur l’orientation des enfants de 3 à 11a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CSD est identique mais sa présidence est confiée à l’Inspecteur d’Académie et elle se réunit au moins une fois par trimestre</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donne son avis sur l’orientation des enfants de 11à 16 an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us les intervenants sont soumis au secret </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Section d’Enseignement Général et Professionnel Adapté (SEGPA)</a:t>
            </a:r>
            <a:endParaRPr b="1" lang="en-US" sz="3200" spc="-1" strike="noStrike">
              <a:solidFill>
                <a:srgbClr val="9900cc"/>
              </a:solidFill>
              <a:latin typeface="Arial"/>
            </a:endParaRPr>
          </a:p>
        </p:txBody>
      </p:sp>
      <p:sp>
        <p:nvSpPr>
          <p:cNvPr id="108" name="PlaceHolder 1"/>
          <p:cNvSpPr>
            <a:spLocks noGrp="1"/>
          </p:cNvSpPr>
          <p:nvPr>
            <p:ph/>
          </p:nvPr>
        </p:nvSpPr>
        <p:spPr>
          <a:xfrm>
            <a:off x="838080" y="2362320"/>
            <a:ext cx="7925040" cy="4038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rPr>
              <a:t>Public concerné</a:t>
            </a:r>
            <a:r>
              <a:rPr b="0" lang="fr-FR"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SEGPA accueillent des élèves présentant des difficultés scolaires graves et persistantes et sur le plan de l’efficience intellectuelle des difficultés et des perturbations.Elles sont dans les collèg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u="sng">
                <a:solidFill>
                  <a:srgbClr val="000000"/>
                </a:solidFill>
                <a:uFillTx/>
                <a:latin typeface="Arial"/>
              </a:rPr>
              <a:t>Constitution du dossier d’orient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e dossier comport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pédagogique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psychologique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médicale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socia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Section d’Enseignement Général et Professionnel Adapté (SEGPA)</a:t>
            </a:r>
            <a:br>
              <a:rPr sz="3200"/>
            </a:br>
            <a:r>
              <a:rPr b="1" lang="en-US" sz="3200" spc="-1" strike="noStrike">
                <a:solidFill>
                  <a:srgbClr val="9900cc"/>
                </a:solidFill>
                <a:latin typeface="Arial"/>
              </a:rPr>
              <a:t>Formation des élèves</a:t>
            </a:r>
            <a:endParaRPr b="1" lang="en-US" sz="3200" spc="-1" strike="noStrike">
              <a:solidFill>
                <a:srgbClr val="9900cc"/>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est une formation générale et pré-professionnell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L’organisation</a:t>
            </a:r>
            <a:r>
              <a:rPr b="0" lang="fr-FR" sz="1400" spc="-1" strike="noStrike">
                <a:solidFill>
                  <a:srgbClr val="000000"/>
                </a:solidFill>
                <a:latin typeface="Arial"/>
              </a:rPr>
              <a:t>: elle s’appuie sur le programme général du collèg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ycle d’adaptation </a:t>
            </a:r>
            <a:r>
              <a:rPr b="0" lang="fr-FR" sz="1400" spc="-1" strike="noStrike">
                <a:solidFill>
                  <a:srgbClr val="000000"/>
                </a:solidFill>
                <a:latin typeface="Arial"/>
              </a:rPr>
              <a:t>: accueillir des élèves et faciliter leur adaptation (un a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ycle central :</a:t>
            </a:r>
            <a:r>
              <a:rPr b="0" lang="fr-FR" sz="1400" spc="-1" strike="noStrike">
                <a:solidFill>
                  <a:srgbClr val="000000"/>
                </a:solidFill>
                <a:latin typeface="Arial"/>
              </a:rPr>
              <a:t> fortifier les apprentissages généraux et technologiques : Réalisations concrètes - éducation à la santé et à la sécurité - information sur les métiers - visites d’entreprises - stages de courte durée - éducation à la citoyenneté.</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ycle d’orientation </a:t>
            </a:r>
            <a:r>
              <a:rPr b="0" lang="fr-FR" sz="1400" spc="-1" strike="noStrike">
                <a:solidFill>
                  <a:srgbClr val="000000"/>
                </a:solidFill>
                <a:latin typeface="Arial"/>
              </a:rPr>
              <a:t>: engager l’orientation vers une formation qualifiante (un an). Pratique d’ateliers dans le cadre d’un champ professionnel - stag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L’organisation des enseignements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Au sein du collège, la SEGPA est une structure organisée en division avec des professeurs spécialisés pour l’enseignement général, des professeurs de lycée professionnel pour l’enseignement professionne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effectif des divisions se situe autour de seize élèv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Unité Pédagogique d’Intégration (UPI)</a:t>
            </a:r>
            <a:endParaRPr b="1" lang="en-US" sz="3200" spc="-1" strike="noStrike">
              <a:solidFill>
                <a:srgbClr val="9900cc"/>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UPI est un dispositif collectif d’intégration créé en collège ou en lycée pour la scolarisation d’élèves porteurs de handicaps ou de maladies invalidant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ccueil se fait sur la base d’un projet individuel d’intégration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ffectif maximal est de dix élèv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 bilan annuel du suivi de chaque élève est adressé à la commission de circonscription du second degré (CCS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préparation de l’insertion professionnelle s’appuie sur une ou plusieurs SEGPA ou sur un institut médico-éducatif (IME) doté d’une section d’initiation et de première formation professionne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39:00Z</dcterms:created>
  <dc:creator>Guylhaine Julhien</dc:creator>
  <dc:description/>
  <dc:language>en-US</dc:language>
  <cp:lastModifiedBy>Faleńczyk</cp:lastModifiedBy>
  <dcterms:modified xsi:type="dcterms:W3CDTF">2004-11-15T19:05:00Z</dcterms:modified>
  <cp:revision>23</cp:revision>
  <dc:subject/>
  <dc:title>COMMISSIONS D’EDUCATION SPECIA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74924191</vt:r8>
  </property>
  <property fmtid="{D5CDD505-2E9C-101B-9397-08002B2CF9AE}" pid="3" name="_AuthorEmail">
    <vt:lpwstr>guylh.julh@nerim.fr</vt:lpwstr>
  </property>
  <property fmtid="{D5CDD505-2E9C-101B-9397-08002B2CF9AE}" pid="4" name="_AuthorEmailDisplayName">
    <vt:lpwstr>Guylhaine Julhien</vt:lpwstr>
  </property>
  <property fmtid="{D5CDD505-2E9C-101B-9397-08002B2CF9AE}" pid="5" name="_EmailSubject">
    <vt:lpwstr>ZORY</vt:lpwstr>
  </property>
  <property fmtid="{D5CDD505-2E9C-101B-9397-08002B2CF9AE}" pid="6" name="_PreviousAdHocReviewCycleID">
    <vt:r8>1137762369</vt:r8>
  </property>
</Properties>
</file>