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605-38F7-4ECE-9910-240E6FE4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2FEB-BFAD-4AA2-B951-EADBB558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735-A936-4952-AF46-837604C6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FE5-F449-4875-BAD9-3B2B8C6A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369A-D67F-4D8B-9B4A-C2EC4F3E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9821-1E07-4E3C-BD73-2D2EDB07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4B1C-31C1-4252-AA62-B41C9848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A9FA-B88F-4F29-944A-237B27B9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06BB-3517-48E4-AEF1-04C0AC2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5EA5-61D9-4F7E-830A-3C8AD7AF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B1D4-FB9D-48DB-B8D9-C28B6CB7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B59-A36A-4458-9C2E-B6DEA186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4EDE-B1F3-47C9-8396-5DB720F9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2A6A-7D3A-4CD4-ABA6-02603E22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5468-4F9D-4616-9FC9-42FB7A7A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2DB5-3927-4F8E-87FC-F2899EEB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7E42-096C-4739-9A72-B335B7C8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86C-ED8E-448F-AFA9-10E83F5A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7ED-4C95-481B-ACCB-9A73DA5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BDA-5CF5-4FDC-A74B-7860A635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4DE2-9BD1-452F-BCE7-87D48477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030-3B72-48A2-A730-CE2C736D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619-561E-4DC9-A731-C32D04E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A41-10EC-46C2-A42E-29E2CCD5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D5D0-2587-425F-9377-AD2F7A17A64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6F67-AF19-4ADD-B50E-8E4A18BBD4D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90512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OJEKT DZI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ZAKRESU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PREORIENTACJI ZAWODOWEJ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DLA UCZNIÓW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Z NIEP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OSPRAWNO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C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NTELEKTUALN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pedagogiczne: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13372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bezpiecz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two pra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ozwijanie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zainteresow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ń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(prace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anualne, zdo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plastycz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towanie estetyki wykonywanych prac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dr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nie do db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o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motywowanie do samodziel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konsekwencji,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wytrwał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, do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adno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ś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 i twórczych posta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Cele operacyjne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82880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projektem dotyczącym wyboru przyszłego zawod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zasad funkcjonowania pracowni introligatorskiej na Warsztatach Terapii Zajęciowej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y drukarz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konserwacja i oprawianie zniszczonych książ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odukcja opakowa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odukcja notesów i zeszytów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5335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erwsz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743200"/>
            <a:ext cx="8305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tworzenie grup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się z poziomem i możliwościami uczni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głównymi celami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eprowadzenie w szkole warsztatów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1295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zygotowanie do projektu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drug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836720"/>
            <a:ext cx="8001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oznanie pracowni introligatorskiej, zasad jej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funkcjonowania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integracja z uczestnikami warsztat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z maszynami znajdującymi się w pracown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interesowanie uczniów pracami introligatorskim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powstaje książka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 zeszytów ze składek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kładki na książkę: przycinanie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klejanie, n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ładanie czcionki, zdobnictwo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nserwacja i naprawa ksi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92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imes New Roman"/>
              </a:rPr>
              <a:t>cia w pracowni introligatorskiej –  I etap projektu</a:t>
            </a:r>
            <a:r>
              <a:rPr b="1" lang="en-US" sz="2200" spc="-1" strike="noStrike">
                <a:solidFill>
                  <a:srgbClr val="545472"/>
                </a:solidFill>
                <a:latin typeface="Tahoma"/>
                <a:ea typeface="Tahoma"/>
              </a:rPr>
              <a:t> </a:t>
            </a:r>
            <a:endParaRPr b="0" lang="en-US" sz="2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trzeci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oprowadzenie uczniów po zakładz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zapoznanie uczniów z zadaniami pracownikó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poznanie z funkcjonowaniem i przeznaczeniem maszy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295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owadzone w drukarni Oldprint w 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1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ra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czwar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0481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prezentacja: Jak zrobić torebkę na prezenty?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ahoma"/>
              </a:rPr>
              <a:t>samodzielne wykonywanie opakowań na prezen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zdabianie torebek w stylu zgodnym  z ich przeznaczeniem,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zy pełnym wykorzystaniu własnej inwencji twórczej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914400"/>
            <a:ext cx="7924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Prezent w efektownym opakowani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Zaj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cia przeprowadzane  w Zespole Szk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 n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r 8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Krok pi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ą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  <a:ea typeface="Times New Roman"/>
              </a:rPr>
              <a:t>ty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266688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zleconych prac introligatorski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wykonywanie notesów i zeszytów przy u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yciu gilotyny,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ahoma"/>
              </a:rPr>
              <a:t>bindownic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54547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oprawianie i naprawa ksi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</a:rPr>
              <a:t>ąż</a:t>
            </a:r>
            <a:r>
              <a:rPr b="0" lang="pl-PL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ek ze szkolnej biblioteki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99072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Szkoln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ó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ł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ko Introligatorski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–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II etap projektu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15:51:13Z</dcterms:created>
  <dc:creator>katyja</dc:creator>
  <dc:description/>
  <dc:language>en-US</dc:language>
  <cp:lastModifiedBy>g8</cp:lastModifiedBy>
  <dcterms:modified xsi:type="dcterms:W3CDTF">2004-11-19T09:29:40Z</dcterms:modified>
  <cp:revision>9</cp:revision>
  <dc:subject/>
  <dc:title>Prezentacja programu PowerPoint</dc:title>
</cp:coreProperties>
</file>