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B49D-7A01-4174-85CB-4B4120A59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8F2D-92B3-4AC2-99E4-7C44564F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1A14-4A45-45E5-BC47-CC89D3B3B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C3D5-9E1D-442C-829E-DE63C8F2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44D3-A310-48D9-970A-AE05C935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06E4-CF65-4495-A92A-69489087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D8ED-43B9-4197-A905-D0458822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F6DC-6B34-4317-9476-7710F3E4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44BD-6D9B-4FFB-AAD5-513194B2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DD53-A093-4EB1-87E5-659370E4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F3AF-30DB-4FCB-A661-F4775DB9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A8CD-EE42-40C0-9B26-67EB003F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8B55-300F-4076-BD2A-16039074B5CB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19440" y="1338120"/>
          <a:ext cx="5506920" cy="418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9440" y="1338120"/>
                    <a:ext cx="5506920" cy="41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24000" y="1744560"/>
          <a:ext cx="8496000" cy="33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44560"/>
                    <a:ext cx="8496000" cy="33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0" y="1866960"/>
          <a:ext cx="8748720" cy="32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66960"/>
                    <a:ext cx="8748720" cy="32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996920" y="754200"/>
          <a:ext cx="5151600" cy="534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6920" y="754200"/>
                    <a:ext cx="5151600" cy="53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2520" y="1125360"/>
          <a:ext cx="823896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125360"/>
                    <a:ext cx="82389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55640" y="1916280"/>
          <a:ext cx="8137440" cy="27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16280"/>
                    <a:ext cx="813744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87280" y="1854360"/>
          <a:ext cx="8569440" cy="31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854360"/>
                    <a:ext cx="8569440" cy="31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98400" y="2019240"/>
          <a:ext cx="7748640" cy="28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2019240"/>
                    <a:ext cx="7748640" cy="28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68360" y="1587600"/>
          <a:ext cx="7991280" cy="37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87600"/>
                    <a:ext cx="7991280" cy="37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8400" y="1882800"/>
          <a:ext cx="9009000" cy="30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00" y="1882800"/>
                    <a:ext cx="9009000" cy="30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24000" y="966960"/>
          <a:ext cx="8640720" cy="48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66960"/>
                    <a:ext cx="8640720" cy="48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24000" y="1822320"/>
          <a:ext cx="8569080" cy="318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22320"/>
                    <a:ext cx="8569080" cy="31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09:37:51Z</dcterms:created>
  <dc:creator>Metis</dc:creator>
  <dc:description/>
  <dc:language>en-US</dc:language>
  <cp:lastModifiedBy>Faleńczyk</cp:lastModifiedBy>
  <dcterms:modified xsi:type="dcterms:W3CDTF">2004-11-15T19:08:46Z</dcterms:modified>
  <cp:revision>17</cp:revision>
  <dc:subject/>
  <dc:title>Slajd 1</dc:title>
</cp:coreProperties>
</file>