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0888-1FB3-4263-80BA-F55CAD50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9070-863D-44E0-AB1A-3132A852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C1E-6E7E-4273-AA8E-6E246FC2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A52-826B-4432-93BC-AFAF4EC5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C710-08D6-41F4-8DC3-978EFBDD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59C4-DE7B-42C0-8D52-D4B86168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7FE8-EA03-4076-AC98-C27C51DB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12F7-4CFD-43C5-92D0-317004A5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1F68-362C-4E71-B6F0-EBB414BB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9BA3-7DFB-4F81-86F4-C61737CE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CA81-F15C-4C8C-8191-B40A8441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4DE-74AE-45EC-9C61-EA89D8C4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72AF-8BE6-4BED-B0BE-809F96BA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7461-C5F3-4D13-B6FE-ED5D5E62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378E-8D47-4DD6-8EDD-0ED89901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FE79-7F3F-4010-882B-FE0C4FB5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0BD7-00E8-4227-863C-C6AA0FC4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3B2-60A0-4CF1-B9ED-33045355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956-6C64-442A-9871-27B127F4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6514-C4F5-4CE8-AE99-440429A7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B479-4998-4452-B9E1-84481F20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9B5D-C36F-4517-B4E2-6DABF633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E20D-B869-446A-9259-0C116766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004-9702-4BCE-82BD-BC46BD26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E8D7-359B-408E-802F-2047E380C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9FCD-CE76-4A8A-8D82-029ADE4A1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429000"/>
            <a:ext cx="7848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PROJEKT DZI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A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Ń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Z  ZAKRESU PREORIENTACJI ZAWODOW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KLASY INTEGRACYJNEJ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(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CZNIK 2003 – 2006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)</a:t>
            </a:r>
            <a:br>
              <a:rPr sz="4400"/>
            </a:br>
            <a:br>
              <a:rPr sz="4400"/>
            </a:br>
            <a:r>
              <a:rPr b="1" lang="en-US" sz="2000" spc="-1" strike="noStrike">
                <a:solidFill>
                  <a:srgbClr val="221304"/>
                </a:solidFill>
                <a:latin typeface="Tahoma"/>
              </a:rPr>
              <a:t>opracował: mgr Łukasz Cieśla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90720" y="68544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19320" y="1523880"/>
            <a:ext cx="6858000" cy="459720"/>
            <a:chOff x="1219320" y="1523880"/>
            <a:chExt cx="6858000" cy="459720"/>
          </a:xfrm>
        </p:grpSpPr>
        <p:sp>
          <p:nvSpPr>
            <p:cNvPr id="120" name=""/>
            <p:cNvSpPr/>
            <p:nvPr/>
          </p:nvSpPr>
          <p:spPr>
            <a:xfrm>
              <a:off x="1600200" y="152388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st zd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iedoko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zo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9320" y="16765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219320" y="4952880"/>
            <a:ext cx="6324480" cy="825480"/>
            <a:chOff x="1219320" y="4952880"/>
            <a:chExt cx="6324480" cy="825480"/>
          </a:xfrm>
        </p:grpSpPr>
        <p:sp>
          <p:nvSpPr>
            <p:cNvPr id="123" name=""/>
            <p:cNvSpPr/>
            <p:nvPr/>
          </p:nvSpPr>
          <p:spPr>
            <a:xfrm>
              <a:off x="1752480" y="49528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5029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219320" y="4343400"/>
            <a:ext cx="6324480" cy="459720"/>
            <a:chOff x="1219320" y="4343400"/>
            <a:chExt cx="6324480" cy="459720"/>
          </a:xfrm>
        </p:grpSpPr>
        <p:sp>
          <p:nvSpPr>
            <p:cNvPr id="126" name=""/>
            <p:cNvSpPr/>
            <p:nvPr/>
          </p:nvSpPr>
          <p:spPr>
            <a:xfrm>
              <a:off x="1676520" y="434340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cieczki krajoznawczo -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urystyczne.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9320" y="44956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219320" y="3581280"/>
            <a:ext cx="6933960" cy="825480"/>
            <a:chOff x="1219320" y="3581280"/>
            <a:chExt cx="6933960" cy="825480"/>
          </a:xfrm>
        </p:grpSpPr>
        <p:sp>
          <p:nvSpPr>
            <p:cNvPr id="129" name=""/>
            <p:cNvSpPr/>
            <p:nvPr/>
          </p:nvSpPr>
          <p:spPr>
            <a:xfrm>
              <a:off x="1676520" y="3581280"/>
              <a:ext cx="6476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edukacja prozdrowotna -  analiza stanu zdrowi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19320" y="3733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219320" y="2209680"/>
            <a:ext cx="6553080" cy="1557000"/>
            <a:chOff x="1219320" y="2209680"/>
            <a:chExt cx="6553080" cy="1557000"/>
          </a:xfrm>
        </p:grpSpPr>
        <p:sp>
          <p:nvSpPr>
            <p:cNvPr id="132" name=""/>
            <p:cNvSpPr/>
            <p:nvPr/>
          </p:nvSpPr>
          <p:spPr>
            <a:xfrm>
              <a:off x="1600200" y="2209680"/>
              <a:ext cx="6172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dzielanie informacji na temat dzi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jących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szkole 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zainteresow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ń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z odbyw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ych się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zalekcyj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19320" y="2362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23520" y="990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znajemy zaw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219320"/>
            <a:ext cx="228600" cy="228600"/>
          </a:xfrm>
          <a:prstGeom prst="ellipse">
            <a:avLst/>
          </a:prstGeom>
          <a:solidFill>
            <a:srgbClr val="a1bd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43000" y="1752480"/>
            <a:ext cx="8001000" cy="2000520"/>
            <a:chOff x="1143000" y="1752480"/>
            <a:chExt cx="8001000" cy="2000520"/>
          </a:xfrm>
        </p:grpSpPr>
        <p:sp>
          <p:nvSpPr>
            <p:cNvPr id="137" name=""/>
            <p:cNvSpPr/>
            <p:nvPr/>
          </p:nvSpPr>
          <p:spPr>
            <a:xfrm>
              <a:off x="1523880" y="1752480"/>
              <a:ext cx="7620120" cy="20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sp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„Dni Otwartych Gimnazjum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43000" y="2514600"/>
            <a:ext cx="8534520" cy="1295280"/>
            <a:chOff x="1143000" y="2514600"/>
            <a:chExt cx="8534520" cy="1295280"/>
          </a:xfrm>
        </p:grpSpPr>
        <p:sp>
          <p:nvSpPr>
            <p:cNvPr id="140" name=""/>
            <p:cNvSpPr/>
            <p:nvPr/>
          </p:nvSpPr>
          <p:spPr>
            <a:xfrm>
              <a:off x="1600200" y="2514600"/>
              <a:ext cx="807732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arsztaty: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ocne i  słabe stron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wiązywanie konfliktów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Umiejętne gospodarowanie czasem wolny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ęzyk, gesty i słowa – jak się porozumiewam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filaktyka uzależnień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09480" indent="-609480">
                <a:lnSpc>
                  <a:spcPct val="13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 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Jak b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ć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kreatywnym”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27432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44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westionariusz „Po nitce do kłębka”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143000" y="1981080"/>
            <a:ext cx="6705720" cy="1191240"/>
            <a:chOff x="1143000" y="1981080"/>
            <a:chExt cx="6705720" cy="1191240"/>
          </a:xfrm>
        </p:grpSpPr>
        <p:sp>
          <p:nvSpPr>
            <p:cNvPr id="147" name=""/>
            <p:cNvSpPr/>
            <p:nvPr/>
          </p:nvSpPr>
          <p:spPr>
            <a:xfrm>
              <a:off x="1143000" y="2133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3880" y="1981080"/>
              <a:ext cx="632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adanie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astawieni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ucznió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  konieczności podjęcia decyzji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 wyborze drogi życiow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143000" y="3505320"/>
            <a:ext cx="7315200" cy="825480"/>
            <a:chOff x="1143000" y="3505320"/>
            <a:chExt cx="7315200" cy="825480"/>
          </a:xfrm>
        </p:grpSpPr>
        <p:sp>
          <p:nvSpPr>
            <p:cNvPr id="150" name=""/>
            <p:cNvSpPr/>
            <p:nvPr/>
          </p:nvSpPr>
          <p:spPr>
            <a:xfrm>
              <a:off x="1600200" y="35053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wyjścia do zakładów pracy, przedsiębiorstw, fir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3000" y="36576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143000" y="4419720"/>
            <a:ext cx="7315200" cy="825480"/>
            <a:chOff x="1143000" y="4419720"/>
            <a:chExt cx="7315200" cy="825480"/>
          </a:xfrm>
        </p:grpSpPr>
        <p:sp>
          <p:nvSpPr>
            <p:cNvPr id="153" name=""/>
            <p:cNvSpPr/>
            <p:nvPr/>
          </p:nvSpPr>
          <p:spPr>
            <a:xfrm>
              <a:off x="1600200" y="441972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oznawanie zawodów – zapraszanie ludzi posiadających ciekawe zawod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4300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143000" y="5638680"/>
            <a:ext cx="7010280" cy="825480"/>
            <a:chOff x="1143000" y="5638680"/>
            <a:chExt cx="7010280" cy="825480"/>
          </a:xfrm>
        </p:grpSpPr>
        <p:sp>
          <p:nvSpPr>
            <p:cNvPr id="156" name=""/>
            <p:cNvSpPr/>
            <p:nvPr/>
          </p:nvSpPr>
          <p:spPr>
            <a:xfrm>
              <a:off x="1600200" y="5638680"/>
              <a:ext cx="655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na Warsztaty Terapii Zaję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3000" y="5791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143000" y="1219320"/>
            <a:ext cx="6934320" cy="459720"/>
            <a:chOff x="1143000" y="1219320"/>
            <a:chExt cx="6934320" cy="459720"/>
          </a:xfrm>
        </p:grpSpPr>
        <p:sp>
          <p:nvSpPr>
            <p:cNvPr id="159" name=""/>
            <p:cNvSpPr/>
            <p:nvPr/>
          </p:nvSpPr>
          <p:spPr>
            <a:xfrm>
              <a:off x="1143000" y="1219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3880" y="1219320"/>
              <a:ext cx="65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ą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k Poradnictwa Zawodowego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143000" y="1981080"/>
            <a:ext cx="6705720" cy="825480"/>
            <a:chOff x="1143000" y="1981080"/>
            <a:chExt cx="6705720" cy="825480"/>
          </a:xfrm>
        </p:grpSpPr>
        <p:sp>
          <p:nvSpPr>
            <p:cNvPr id="162" name=""/>
            <p:cNvSpPr/>
            <p:nvPr/>
          </p:nvSpPr>
          <p:spPr>
            <a:xfrm>
              <a:off x="1143000" y="1981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23880" y="198108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promocja szkół ponadgimnazjalnych, zawodów na tablicy informacyjne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143000" y="3124080"/>
            <a:ext cx="7086600" cy="2931480"/>
            <a:chOff x="1143000" y="3124080"/>
            <a:chExt cx="7086600" cy="2931480"/>
          </a:xfrm>
        </p:grpSpPr>
        <p:sp>
          <p:nvSpPr>
            <p:cNvPr id="165" name=""/>
            <p:cNvSpPr/>
            <p:nvPr/>
          </p:nvSpPr>
          <p:spPr>
            <a:xfrm>
              <a:off x="1143000" y="32767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00200" y="3124080"/>
              <a:ext cx="6629400" cy="29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Komunikacja interpersonalna „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sertywność – sztuka bycia sobą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autoprezentacji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być dobrym pracowniki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632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zec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43000" y="1295280"/>
            <a:ext cx="6934320" cy="825480"/>
            <a:chOff x="1143000" y="1295280"/>
            <a:chExt cx="6934320" cy="825480"/>
          </a:xfrm>
        </p:grpSpPr>
        <p:sp>
          <p:nvSpPr>
            <p:cNvPr id="169" name=""/>
            <p:cNvSpPr/>
            <p:nvPr/>
          </p:nvSpPr>
          <p:spPr>
            <a:xfrm>
              <a:off x="1143000" y="14479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3880" y="1295280"/>
              <a:ext cx="6553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e na Warsztaty Terapii Za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ę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iowej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Ż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43000" y="2286000"/>
            <a:ext cx="6705720" cy="825480"/>
            <a:chOff x="1143000" y="2286000"/>
            <a:chExt cx="6705720" cy="825480"/>
          </a:xfrm>
        </p:grpSpPr>
        <p:sp>
          <p:nvSpPr>
            <p:cNvPr id="172" name=""/>
            <p:cNvSpPr/>
            <p:nvPr/>
          </p:nvSpPr>
          <p:spPr>
            <a:xfrm>
              <a:off x="1143000" y="24382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23880" y="2286000"/>
              <a:ext cx="632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-  wiedza uczniów o szkolnictwie ponadgimnazjalnym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219320" y="4419720"/>
            <a:ext cx="7238880" cy="459720"/>
            <a:chOff x="1219320" y="4419720"/>
            <a:chExt cx="7238880" cy="459720"/>
          </a:xfrm>
        </p:grpSpPr>
        <p:sp>
          <p:nvSpPr>
            <p:cNvPr id="175" name=""/>
            <p:cNvSpPr/>
            <p:nvPr/>
          </p:nvSpPr>
          <p:spPr>
            <a:xfrm>
              <a:off x="1600200" y="441972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yjście do Urzędu Pracy w Żora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19320" y="45720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219320" y="5257800"/>
            <a:ext cx="7162560" cy="825480"/>
            <a:chOff x="1219320" y="5257800"/>
            <a:chExt cx="7162560" cy="825480"/>
          </a:xfrm>
        </p:grpSpPr>
        <p:sp>
          <p:nvSpPr>
            <p:cNvPr id="178" name=""/>
            <p:cNvSpPr/>
            <p:nvPr/>
          </p:nvSpPr>
          <p:spPr>
            <a:xfrm>
              <a:off x="1523880" y="5257800"/>
              <a:ext cx="685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ganizacja wyj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ść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na „Dni otwarte szkó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ponadgimnazjalnyc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19320" y="541008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219320" y="3352680"/>
            <a:ext cx="6095880" cy="825480"/>
            <a:chOff x="1219320" y="3352680"/>
            <a:chExt cx="6095880" cy="825480"/>
          </a:xfrm>
        </p:grpSpPr>
        <p:sp>
          <p:nvSpPr>
            <p:cNvPr id="181" name=""/>
            <p:cNvSpPr/>
            <p:nvPr/>
          </p:nvSpPr>
          <p:spPr>
            <a:xfrm>
              <a:off x="1219320" y="350532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3352680"/>
              <a:ext cx="57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ankieta - wybór konkretnej szkoły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oraz profilu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3880" y="2895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219320" y="762120"/>
            <a:ext cx="6933960" cy="5176440"/>
            <a:chOff x="1219320" y="762120"/>
            <a:chExt cx="6933960" cy="5176440"/>
          </a:xfrm>
        </p:grpSpPr>
        <p:sp>
          <p:nvSpPr>
            <p:cNvPr id="185" name=""/>
            <p:cNvSpPr/>
            <p:nvPr/>
          </p:nvSpPr>
          <p:spPr>
            <a:xfrm>
              <a:off x="1219320" y="914400"/>
              <a:ext cx="228600" cy="228600"/>
            </a:xfrm>
            <a:prstGeom prst="ellipse">
              <a:avLst/>
            </a:prstGeom>
            <a:solidFill>
              <a:srgbClr val="a1bd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23880" y="762120"/>
              <a:ext cx="6629400" cy="51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posoby radzenia sobie ze stresem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Bezpieczeństwo i higiena pracy 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Warsztaty Orientacji Zawodowej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ie bój się pierwszej pracy. Przygotowanie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ozmowy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z pracodawcą“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ystem szkolnictwa ponadgimnazjalnego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Ma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ł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y rynek – duża szansa.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            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Ćwiczenia przedsiębiorczości”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Jak dobrze napisać podanie, list motywacyjny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i CV?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„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zara” Polska – działanie rynku pracy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371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G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Ł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ÓWNY CEL PROGRAMU: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00200" y="31240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zygotowanie uczniów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iadomego wyboru szko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y oraz przysz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o zawodu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858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PIERWSZY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DRUGI 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ZAWÓD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ROK TRZECI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l-PL" sz="3400" spc="-1" strike="noStrike">
                <a:solidFill>
                  <a:srgbClr val="000000"/>
                </a:solidFill>
                <a:latin typeface="Tahoma"/>
                <a:ea typeface="Times New Roman"/>
              </a:rPr>
              <a:t>„DECYZJA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PIERWSZY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4920" y="16002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zdolności                       i umiejętności uczniów, mocnych                   oraz słabych s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327672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tywacja do rozwijania zainteresowań            i umiejęt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4572000"/>
            <a:ext cx="670572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ocja zdrowego stylu życia.                Analiza stanu zdrow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14479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świadamianie związku między osobowością (charakterem) a wyborem zawod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276720"/>
            <a:ext cx="6705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poszerzania wiedzy szkolnej i os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ania lepszych wynikó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 na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60948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DRUGI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różnymi zawod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wodów poszukiwanych  na rynku polskim oraz 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267080"/>
            <a:ext cx="6629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rozpoznawaniu poziomu atrakcyjności różnych zawodów                       i specjal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53352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ormowanie o wymaganiach psychofizycznych koniecznych do podjęcia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327672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ybliżanie pojęć związanych z pracą zawodową (środowisko pracy, narzędzia pracy, zadania i czynności itp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876920"/>
            <a:ext cx="6934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pirowanie uczniów do myślenia               o przyszłości i planowania swojej karier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zawodowej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05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ozwój umie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n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i komunikacji, autoprezentacji oraz zachowań asertywnych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  <a:ea typeface="Times New Roman"/>
              </a:rPr>
              <a:t>ROK TRZECI</a:t>
            </a: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nie uczniów z czynnikami warunkującymi trafną decyzję  wyboru zawod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971800"/>
            <a:ext cx="6629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moc w nabyciu umiejętności radzenia sobie ze stresem                       oraz postępowania  w sytuacjach trud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4648320"/>
            <a:ext cx="7162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poznawanie uczniów z systemem szkolnictwa ponadgimnazjalnego                  (typy szkół oraz prof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90720" y="990720"/>
            <a:ext cx="76197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zedstawianie zasad rekrutacji, wymagań egzaminacyj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2895480"/>
            <a:ext cx="76201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owanie wyj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ść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a „Dni Otwar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419720"/>
            <a:ext cx="762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pirowanie do uzyskiwania oraz podnoszenia kwalifikacji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5:34:04Z</dcterms:created>
  <dc:creator>katyja</dc:creator>
  <dc:description/>
  <dc:language>en-US</dc:language>
  <cp:lastModifiedBy>Alicja</cp:lastModifiedBy>
  <dcterms:modified xsi:type="dcterms:W3CDTF">2004-11-18T08:18:34Z</dcterms:modified>
  <cp:revision>22</cp:revision>
  <dc:subject/>
  <dc:title>PROJEKT DZIAŁAŃ Z  ZAKRESU PREORIENTACJI ZAWODOWEJ KLASY INTEGRACYJNEJ (ROCZNIK 2003 – 2006) </dc:title>
</cp:coreProperties>
</file>