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B69-8226-47A8-82BE-5401694B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BCA-DFDD-41E8-8C9B-1E4C5C88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678-A523-4ACD-B6E6-275095F3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15E-B838-40A9-B146-A435F80E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A2B6-4E5E-4356-80D0-8EB9E87D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2BE2-621B-4645-B840-BF9484FA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F959-1E79-494C-A9B0-4A384F54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F044-E87F-415F-B66F-7947F852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9661-ED15-4495-BB6F-CFF92983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2E71-2442-4495-B173-52F95673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9EC3-67B5-4CF9-942E-3625E31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27C-C67A-4BAB-86B6-C881E31E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DB96-B47A-4E8F-8194-31A02A0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B139-A8B5-464E-9ECC-2710022D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7853-0C8F-4F76-9B50-A1A27720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DBAE-3D96-4C4E-87C2-FA8F3809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6093-1740-4B34-AB17-CDFC7977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6175-E8E7-4923-84F2-FFBD7EED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69A-2A47-49FB-8276-D4A9E451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D4C-7755-4EB7-8719-D274EA0C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4A7A-B30B-43A9-A3C4-0593A0F5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9DB-61E5-4FB4-A539-1885CDD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F89-837E-42C1-8D4C-2CF3A60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BAA-7ADC-4BBA-B3F1-1DFE38FC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F6E1-B041-4B90-8B2B-9E2679C4B42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9DDB-A710-4346-851B-E296FCBF61D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600200" y="1219320"/>
            <a:ext cx="6629400" cy="35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„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OGRÓDEK SKALNY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projekt działań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pracowała: mgr Iwona Hendrysiak</a:t>
            </a:r>
            <a:r>
              <a:rPr b="0" lang="pl-PL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3880" y="914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órz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447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Dbajcie o nie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3341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ziwia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ujcie go!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8" name="iw4" descr=""/>
          <p:cNvPicPr/>
          <p:nvPr/>
        </p:nvPicPr>
        <p:blipFill>
          <a:blip r:embed="rId2"/>
          <a:stretch/>
        </p:blipFill>
        <p:spPr>
          <a:xfrm>
            <a:off x="1905120" y="2133720"/>
            <a:ext cx="4378320" cy="3109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wychowawcze:</a:t>
            </a:r>
            <a:r>
              <a:rPr b="0" lang="en-US" sz="4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6400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U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wienie ucznia na p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no przyrody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zenia nauki, pracy, zabawy i wypoczynk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N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bycie umiej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organizowania czasu wolnego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le szczegó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e: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143000"/>
            <a:ext cx="80773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zyro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Ro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j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yobr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ź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Twor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w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 cz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wieka z natur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jak prac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d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ż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nia do o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ania celów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czy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dpowiedzialn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ow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edyspozycje zawodowe uczniów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ie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 i pe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nosprawnych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eni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ć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i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projektami, r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ami, ska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             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 innymi szko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ami (partnerami projektu Comenius).</a:t>
            </a:r>
            <a:r>
              <a:rPr b="1" lang="pl-PL" sz="24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828800"/>
            <a:ext cx="80773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e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konkursu fotograficznego” Skalniak i cztery pory roku”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kup nowych ro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pl-PL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osn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tygodni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at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ograniczona ilo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ść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spotka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, dy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</a:rPr>
              <a:t>ż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ury.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iw5" descr=""/>
          <p:cNvPicPr/>
          <p:nvPr/>
        </p:nvPicPr>
        <p:blipFill>
          <a:blip r:embed="rId2"/>
          <a:stretch/>
        </p:blipFill>
        <p:spPr>
          <a:xfrm>
            <a:off x="304920" y="190512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99" name="iw3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978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523880"/>
            <a:ext cx="85345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tworzenie grupy opiekuj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ej s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ogrodem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iel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ę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n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lewanie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rabienie l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Podcinanie krzewów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okalizacja nowych sk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ek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abezpieczenie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przed zim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cieczka na Klimczok w celu obserwacji Ogrodu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 Skalnych i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Górskich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</a:rPr>
              <a:t>Jesień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spotkania raz w tygodniu.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3049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Realizacja projektu.</a:t>
            </a:r>
            <a:r>
              <a:rPr b="0" lang="en-US" sz="4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828800"/>
            <a:ext cx="8534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ymiana d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wiadcze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g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ł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szenie wyników Konkursu Fotograficznego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bieranie wiadom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i na temat wymaga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ń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Obserwacja przyrody.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Klasyfikacja ro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</a:rPr>
              <a:t>ś</a:t>
            </a:r>
            <a:r>
              <a:rPr b="0" lang="en-US" sz="18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lin.</a:t>
            </a:r>
            <a:r>
              <a:rPr b="1" lang="en-US" sz="1800" spc="-1" strike="noStrike">
                <a:solidFill>
                  <a:srgbClr val="463634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010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Zima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: spotkania raz w miesi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463634"/>
                </a:solidFill>
                <a:latin typeface="Comic Sans MS"/>
                <a:ea typeface="Times New Roman"/>
              </a:rPr>
              <a:t>cu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iw2" descr=""/>
          <p:cNvPicPr/>
          <p:nvPr/>
        </p:nvPicPr>
        <p:blipFill>
          <a:blip r:embed="rId2"/>
          <a:stretch/>
        </p:blipFill>
        <p:spPr>
          <a:xfrm>
            <a:off x="3276720" y="3505320"/>
            <a:ext cx="4452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7:28:15Z</dcterms:created>
  <dc:creator>katyja</dc:creator>
  <dc:description/>
  <dc:language>en-US</dc:language>
  <cp:lastModifiedBy>katyja</cp:lastModifiedBy>
  <dcterms:modified xsi:type="dcterms:W3CDTF">2004-11-17T15:59:33Z</dcterms:modified>
  <cp:revision>7</cp:revision>
  <dc:subject/>
  <dc:title>Prezentacja programu PowerPoint</dc:title>
</cp:coreProperties>
</file>