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558-0CE3-48A6-97FF-B7FC02D7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500-9776-468F-884C-2EC7A818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5AB8-979D-4278-99DB-997E0EA7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206-CF98-4629-B534-3D9506D7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18C-A7BC-40B4-8444-F6519CD8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99AD-FAC1-4EE5-A533-23C33C0C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7BE-E422-415B-81D3-C76C933F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D6E-ECE3-42B2-9BE7-4C8C6473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449-2928-485B-B3D7-5C266180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D9E-A8A4-4D95-8F2C-0E4BCEF3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509-4BD3-48B7-A195-FD8295B4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0B2-DA21-44D6-85A1-F16384F5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5797-D407-43F4-A8B7-42AB7A924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 orientacji zawodowej uczniów z lekkim upośledzeniem umysłowym w kontekście przeobrażeń gospodarczych, społecznych i kulturowych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715920"/>
            <a:ext cx="7920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tuacja społeczna osób z lekkim upośledzeniem umysłow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 orientacji zawod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a wybór zaw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kluzja końc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47628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non Gajdz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t Śląski, Filia w Cieszy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27640" y="40464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SCIEZN" descr=""/>
          <p:cNvPicPr/>
          <p:nvPr/>
        </p:nvPicPr>
        <p:blipFill>
          <a:blip r:embed="rId1"/>
          <a:stretch/>
        </p:blipFill>
        <p:spPr>
          <a:xfrm>
            <a:off x="6877080" y="549360"/>
            <a:ext cx="1297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kształcenia specjalnego w Po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polskim szkolnym systemie kształcenia specjalnego można wyróżnić następujące form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zkoły specjal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zęściowo segreg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klasy specjalne przy szkołach ogólnodostępnych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cyjn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w jej obręb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instytucjon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klasy integracyjne przy szkołach ogólnodostępnych, szkoły integracyjn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cyjną naturaln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dywidualne kształcenie w klasie ogólnodostępne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uczania indywidualne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dywidualne kształcenie, najczęściej w domu uczn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orientacji zawodowej uczniów z lekk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ośledzeni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ysłowy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całokształcie przygotowania zawodowego uczniów lekko upośledzonych umysłowo można wyróżnić trzy podstawowe okres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orientacja zawodowa prowadzona w szkole podstaw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entacja zawodowa prowadzona w gimnazj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uka zawodu prowadzona w szkołach zawod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dania preorientacji i orientacji zawodowej w kształceniu dzieci i młodzieży lekko upośledzonej umysłowo można podzielić na sfer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chowawcz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yjn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zwijanie zainteresowań i uzdolnień w zajęciach pozalekcyj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półpracę z rodzic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anty ograniczające wybór zawodu przez uczniów z lekkim upośledzeniem umysł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burzenia charakteryzujące rozwój i funkcjonowanie społecz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ania bądź przeciwskazania lekar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ferta kształcenia w miejscu zamieszk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jęcie praktyki zawodow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alne możliwości zdobycia posad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interesowania – zamiłowania ucz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7:40:00Z</dcterms:created>
  <dc:creator>n.n.</dc:creator>
  <dc:description/>
  <dc:language>en-US</dc:language>
  <cp:lastModifiedBy>n.n.</cp:lastModifiedBy>
  <dcterms:modified xsi:type="dcterms:W3CDTF">2004-11-18T19:11:35Z</dcterms:modified>
  <cp:revision>2</cp:revision>
  <dc:subject/>
  <dc:title>Proces orientacji zawodowej uczniów z lekkim upośledzeniem umysłowym w kontekście przeobrażeń gospodarczych, społecznych i kulturowych w Polsce</dc:title>
</cp:coreProperties>
</file>