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86C5-F244-4598-8288-9B0AFC8DD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2559-5B21-4188-8EFF-76B04A5CA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943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0701-17B9-422F-942E-E81BD5282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7836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4268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7836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4268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34FC-F015-4556-9BFB-5E3F264F2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EBCBE-9F27-48F5-9F85-A3BBB49B4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F4306-85B5-49CF-B958-B9D2C475A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7E22B-0BCC-4EB3-BE3A-B31CEABAC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85480-F76F-43CD-A81B-9D16C4672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4100B-60CD-46E6-A4DD-0948E8876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520" y="15235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9165F-A630-45A1-BEE1-8ABAF6ECB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2D344-2C12-4023-BA66-5CBB0782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355B-1863-4F91-AE7E-05C7B9593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943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383BF-73A1-4969-BCAA-72BF2A68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AD77C-B75F-4A68-9282-725ABDA0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A0265-0557-4780-ACAA-C65B78E21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1943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9506A-C4AB-490D-B92D-BE876BB4B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7836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4268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7836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24268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A0B5D-869A-4102-B51F-C94EFB151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A2BB-001A-430D-956A-5CC2D7E4C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79FF-5A15-49EC-98DD-4F48C397C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4392-8FE3-483E-84F6-392D24C18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15235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B80B-0F29-4E03-A603-ACF55058C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2DCC-DFA5-499F-AFAC-6F0B81BD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943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D8D8-C706-453D-A44B-034BAF96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315C-4577-4BCF-99FF-DB91965C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BEB41-901E-4932-81A6-B3B6F9D21054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03C54-F2D0-4E0A-9BF3-7F2AA6B7FDC5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46363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6363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600200" y="1219320"/>
            <a:ext cx="6629400" cy="35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„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OGRÓDEK SKALNY”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 Black"/>
              </a:rPr>
              <a:t>-projekt działań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83" name=""/>
          <p:cNvSpPr/>
          <p:nvPr/>
        </p:nvSpPr>
        <p:spPr>
          <a:xfrm>
            <a:off x="1676520" y="586728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pracowała: mgr Iwona Hendrysiak</a:t>
            </a:r>
            <a:r>
              <a:rPr b="0" lang="pl-PL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523880" y="914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Stwórzcie go!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00400" y="14479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Dbajcie o niego!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90920" y="533412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Podziwiajcie go!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5867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bserwujcie go!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88" name="iw4" descr=""/>
          <p:cNvPicPr/>
          <p:nvPr/>
        </p:nvPicPr>
        <p:blipFill>
          <a:blip r:embed="rId2"/>
          <a:stretch/>
        </p:blipFill>
        <p:spPr>
          <a:xfrm>
            <a:off x="1905120" y="2133720"/>
            <a:ext cx="4378320" cy="3109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23880" y="91440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ele wychowawcze:</a:t>
            </a:r>
            <a:r>
              <a:rPr b="0" lang="en-US" sz="4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43000" y="1905120"/>
            <a:ext cx="6400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U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wra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ż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wienie ucznia na pi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kno przyrody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N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abycie umiej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tno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i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łą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zenia nauki, pracy, zabawy i wypoczynku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N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abycie umiej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tno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i organizowania czasu wolnego.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43000" y="30492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ele szczegó</a:t>
            </a:r>
            <a:r>
              <a:rPr b="0" lang="en-US" sz="44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0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we: 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1143000"/>
            <a:ext cx="807732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Uczy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jak obserwowa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przyrod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Roz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wija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wyobra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ź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ni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Tworzy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wi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zi cz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wieka z natur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ą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Uczy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si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jak pracowa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Uczy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si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d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ąż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enia do osi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ą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gania celów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Uczy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si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odpowiedzialno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i.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bserwowa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predyspozycje zawodowe uczniów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niepe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nosprawnych i pe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nosprawnych.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Wymienia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si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projektami, ro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nami, ska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ami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          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z innymi szko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ami (partnerami projektu Comenius).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19320" y="304920"/>
            <a:ext cx="647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Realizacja projektu.</a:t>
            </a:r>
            <a:r>
              <a:rPr b="0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1828800"/>
            <a:ext cx="807732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Piel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gnacja ro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n.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Podlewanie.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Pielenie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Podcinanie krzewów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okalizacja nowych ska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ek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bserwacja przyrody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g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szenie konkursu fotograficznego” Skalniak i cztery pory roku”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Zakup nowych ro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n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29528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Wiosna</a:t>
            </a: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: spotkania raz w tygodniu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219320" y="304920"/>
            <a:ext cx="647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Realizacja projektu.</a:t>
            </a:r>
            <a:r>
              <a:rPr b="0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21932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ato</a:t>
            </a:r>
            <a:r>
              <a:rPr b="1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: ograniczona ilo</a:t>
            </a:r>
            <a:r>
              <a:rPr b="1" lang="en-US" sz="2400" spc="-1" strike="noStrike">
                <a:solidFill>
                  <a:srgbClr val="463634"/>
                </a:solidFill>
                <a:latin typeface="Comic Sans MS"/>
              </a:rPr>
              <a:t>ść</a:t>
            </a:r>
            <a:r>
              <a:rPr b="1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spotka</a:t>
            </a:r>
            <a:r>
              <a:rPr b="1" lang="en-US" sz="2400" spc="-1" strike="noStrike">
                <a:solidFill>
                  <a:srgbClr val="463634"/>
                </a:solidFill>
                <a:latin typeface="Comic Sans MS"/>
              </a:rPr>
              <a:t>ń</a:t>
            </a:r>
            <a:r>
              <a:rPr b="1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, dy</a:t>
            </a:r>
            <a:r>
              <a:rPr b="1" lang="en-US" sz="2400" spc="-1" strike="noStrike">
                <a:solidFill>
                  <a:srgbClr val="463634"/>
                </a:solidFill>
                <a:latin typeface="Comic Sans MS"/>
              </a:rPr>
              <a:t>ż</a:t>
            </a:r>
            <a:r>
              <a:rPr b="1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ury.</a:t>
            </a: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98" name="iw5" descr=""/>
          <p:cNvPicPr/>
          <p:nvPr/>
        </p:nvPicPr>
        <p:blipFill>
          <a:blip r:embed="rId2"/>
          <a:stretch/>
        </p:blipFill>
        <p:spPr>
          <a:xfrm>
            <a:off x="304920" y="1905120"/>
            <a:ext cx="3962160" cy="2685960"/>
          </a:xfrm>
          <a:prstGeom prst="rect">
            <a:avLst/>
          </a:prstGeom>
          <a:ln w="0">
            <a:noFill/>
          </a:ln>
        </p:spPr>
      </p:pic>
      <p:pic>
        <p:nvPicPr>
          <p:cNvPr id="99" name="iw3" descr=""/>
          <p:cNvPicPr/>
          <p:nvPr/>
        </p:nvPicPr>
        <p:blipFill>
          <a:blip r:embed="rId3"/>
          <a:stretch/>
        </p:blipFill>
        <p:spPr>
          <a:xfrm>
            <a:off x="4343400" y="3809880"/>
            <a:ext cx="3978360" cy="2727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219320" y="304920"/>
            <a:ext cx="647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Realizacja projektu.</a:t>
            </a:r>
            <a:r>
              <a:rPr b="0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1523880"/>
            <a:ext cx="8534520" cy="52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Stworzenie grupy opiekuj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ą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ej si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ogrodem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Piel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gnacja ro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n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Podlewanie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Grabienie li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i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Podcinanie krzewów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okalizacja nowych ska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ek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bserwacja przyrody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463634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Zabezpieczenie ro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n przed zim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ą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463634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Wycieczka na Klimczok w celu obserwacji Ogrodu Ro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n Skalnych i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Górskich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129528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3634"/>
                </a:solidFill>
                <a:latin typeface="Comic Sans MS"/>
              </a:rPr>
              <a:t>Jesień</a:t>
            </a: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: </a:t>
            </a:r>
            <a:r>
              <a:rPr b="1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spotkania raz w tygodniu.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219320" y="304920"/>
            <a:ext cx="647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Realizacja projektu.</a:t>
            </a:r>
            <a:r>
              <a:rPr b="0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1828800"/>
            <a:ext cx="85345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Wymiana do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wiadcze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ń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g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szenie wyników Konkursu Fotograficznego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Zbieranie wiadomo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i na temat wymaga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ń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ro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n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bserwacja przyrody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Klasyfikacja ro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n.</a:t>
            </a:r>
            <a:r>
              <a:rPr b="1" lang="en-US" sz="1800" spc="-1" strike="noStrike">
                <a:solidFill>
                  <a:srgbClr val="463634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295280"/>
            <a:ext cx="701064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Zima</a:t>
            </a: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: spotkania raz w miesi</a:t>
            </a:r>
            <a:r>
              <a:rPr b="0" lang="en-US" sz="2400" spc="-1" strike="noStrike">
                <a:solidFill>
                  <a:srgbClr val="463634"/>
                </a:solidFill>
                <a:latin typeface="Comic Sans MS"/>
              </a:rPr>
              <a:t>ą</a:t>
            </a: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u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06" name="iw2" descr=""/>
          <p:cNvPicPr/>
          <p:nvPr/>
        </p:nvPicPr>
        <p:blipFill>
          <a:blip r:embed="rId2"/>
          <a:stretch/>
        </p:blipFill>
        <p:spPr>
          <a:xfrm>
            <a:off x="3276720" y="3505320"/>
            <a:ext cx="4452840" cy="3124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17:28:15Z</dcterms:created>
  <dc:creator>katyja</dc:creator>
  <dc:description/>
  <dc:language>en-US</dc:language>
  <cp:lastModifiedBy>katyja</cp:lastModifiedBy>
  <dcterms:modified xsi:type="dcterms:W3CDTF">2004-11-17T15:59:33Z</dcterms:modified>
  <cp:revision>7</cp:revision>
  <dc:subject/>
  <dc:title>Prezentacja programu PowerPoint</dc:title>
</cp:coreProperties>
</file>