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6B6-4884-49EC-8195-24D9C4CA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648-0F41-4958-89C8-0E6D5206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89E-84B3-411D-84AE-48839A99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BAD9-BEC0-4FCA-B17C-B1E22AF6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F478-E7E6-4205-9720-C7A0A2C9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52CD-FF50-4692-B59E-70CA34A2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C625-CC65-43B8-9D07-6CD32B1B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46FC-0D45-43FA-BC10-AC76BB37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8B04-5EB4-4D6D-99F5-12FC2262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3C47-924C-40A5-82B6-F87DAAB4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3B09-E07D-4D4A-A517-013A0E2A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57C-DB8D-41CF-A5F0-391CB10B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73BB-0908-4AEA-8FCC-06F43D7A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BFBA-A4B3-4EED-A7D3-0AC53895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F57C-C4A7-4F38-8C1E-9DF384B6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66F7-2E1B-4CFF-8520-125EC0C1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BBD0-8E7A-4E56-BC68-4E18137B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94A-B3B8-42C6-802B-C57DD40B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8F3-3BB8-401E-A5F8-EBD156DF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4E3-4CBD-438A-A53F-34518B9C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783-727A-4FE5-BC8D-B7B466D7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7FE8-DA01-4E45-AEC4-5EE99425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CC7-3BF0-4191-B9FE-45F53941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05D-AD72-4980-805E-7196313E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5D4C-6A45-4108-AD63-DEC005491DB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7073-7690-4514-B2D4-E6A30025078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90512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OJEKT DZI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ZAKRESU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EORIENTACJI ZAWODOWEJ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DLA UCZNIÓW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NIEP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OSPRAWNO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C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TELEKTUALN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pedagogiczne: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13372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bezpiecz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two pra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ozwijanie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zainteresow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(prace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anualne,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plastyczne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szt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towanie estetyki wykonywanych prac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otywowanie do samodzie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konsekwencji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ytrw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do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d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twórczych posta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operacyjne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82880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projektem dotyczącym wyboru przyszłego zawod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zasad funkcjonowania pracowni introligatorskiej na Warsztatach Terapii Zajęciowej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y drukarz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konserwacja i oprawianie zniszczonych książ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odukcja opakowa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odukcja notesów i zeszytó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erwsz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74320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tworzenie grup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się z poziomem i możliwościami uczni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głównymi celami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eprowadzenie w szkole warsztatów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zygotowanie do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drug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836720"/>
            <a:ext cx="8001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owni introligatorskiej, zasad jej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funkcjonowani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integracja z uczestnikami warsztat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z maszynami znajdującymi się w pracown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interesowanie uczniów pracami introligatorskim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powstaje książka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 zeszytów ze skład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kładki na książkę: przycinanie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, n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ładanie czcionki, zdobnictw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nserwacja i naprawa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29528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cia w pracowni introligatorskiej –  I etap projektu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ahom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trzec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oprowadzenie uczniów po zakładz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zadaniami pracownik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poznanie z funkcjonowaniem i przeznaczeniem maszy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295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owadzone w drukarni Oldprint w 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ra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czwar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zrobić torebkę na prezenty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pakowań na prezent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zdabianie torebek w stylu zgodnym  z ich przeznaczeniem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y pełnym wykorzystaniu własnej inwencji twórczej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91440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ezent w efektownym opakowani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zeprowadzane  w Zespole Szk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 n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 8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zleconych prac introligatorski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notesów i zeszytów przy u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yciu gilotyny,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bindowni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prawianie i naprawa ksi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 ze szkolnej biblioteki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9907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zkoln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 Introligatorski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51:13Z</dcterms:created>
  <dc:creator>katyja</dc:creator>
  <dc:description/>
  <dc:language>en-US</dc:language>
  <cp:lastModifiedBy>g8</cp:lastModifiedBy>
  <dcterms:modified xsi:type="dcterms:W3CDTF">2004-11-19T09:29:40Z</dcterms:modified>
  <cp:revision>9</cp:revision>
  <dc:subject/>
  <dc:title>Prezentacja programu PowerPoint</dc:title>
</cp:coreProperties>
</file>