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959-FAD2-4989-81BC-F615F420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0500-6149-4403-A8BC-6816EF7D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166B-913E-4EFF-A138-24518DF5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0065-A97E-4C94-BAE4-B992A0DF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D4D9-83BB-4867-B08F-595A8502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B63D-D324-4EB6-9D9B-9B681D7B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77E2-5399-4F1A-9D66-2BC34683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2996-FD9B-4DB9-AA0F-AFFC927F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00A0-4920-4C36-9264-E7B034BC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9B81-A7DF-4343-B949-D3B9D241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A924-4E42-43ED-BC10-765705A7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DC4-674A-41DA-95EA-5A7D52C8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B3B0-9068-4F07-B4C7-B39AAA1C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21D3-9C42-46B5-96EC-145D0304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6260-F00E-4F43-8663-FDE9254D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E58A-6BB7-4E8A-A86C-9E7E6B0D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3430-5B2E-4B40-98F1-6B3A85D2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49E-8605-489E-8E3A-D8F23925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F077-49D6-4F1B-8602-E7AC1C2A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A396-0328-427E-94F0-48456D92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0FFE-C379-429C-8FCA-B07481B2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11AF-9C07-4B94-9CC6-7FDCAC19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BB9A-5277-4691-A959-F24F04DA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5252-9753-4EE2-AF42-8BAA284B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CAB5-0F37-4C58-A1A6-EF9251648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482D-034A-45DA-9A01-791402038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42900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PROJEKT DZIA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Ł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A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Ń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Z  ZAKRESU PREORIENTACJI ZAWODOWEJ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KLASY INTEGRACYJNEJ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(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CZNIK 2003 – 2006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)</a:t>
            </a:r>
            <a:br>
              <a:rPr sz="4400"/>
            </a:br>
            <a:br>
              <a:rPr sz="4400"/>
            </a:br>
            <a:r>
              <a:rPr b="1" lang="en-US" sz="2000" spc="-1" strike="noStrike">
                <a:solidFill>
                  <a:srgbClr val="221304"/>
                </a:solidFill>
                <a:latin typeface="Tahoma"/>
              </a:rPr>
              <a:t>opracował: mgr Łukasz Cieśla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90720" y="68544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pierwszy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89548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44197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219320" y="1523880"/>
            <a:ext cx="6858000" cy="459720"/>
            <a:chOff x="1219320" y="1523880"/>
            <a:chExt cx="6858000" cy="459720"/>
          </a:xfrm>
        </p:grpSpPr>
        <p:sp>
          <p:nvSpPr>
            <p:cNvPr id="120" name=""/>
            <p:cNvSpPr/>
            <p:nvPr/>
          </p:nvSpPr>
          <p:spPr>
            <a:xfrm>
              <a:off x="1600200" y="152388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st zd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niedoko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zo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19320" y="16765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219320" y="4952880"/>
            <a:ext cx="6324480" cy="825480"/>
            <a:chOff x="1219320" y="4952880"/>
            <a:chExt cx="6324480" cy="825480"/>
          </a:xfrm>
        </p:grpSpPr>
        <p:sp>
          <p:nvSpPr>
            <p:cNvPr id="123" name=""/>
            <p:cNvSpPr/>
            <p:nvPr/>
          </p:nvSpPr>
          <p:spPr>
            <a:xfrm>
              <a:off x="1752480" y="4952880"/>
              <a:ext cx="57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e na Warsztaty Terapii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Ż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50292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19320" y="4343400"/>
            <a:ext cx="6324480" cy="459720"/>
            <a:chOff x="1219320" y="4343400"/>
            <a:chExt cx="6324480" cy="459720"/>
          </a:xfrm>
        </p:grpSpPr>
        <p:sp>
          <p:nvSpPr>
            <p:cNvPr id="126" name=""/>
            <p:cNvSpPr/>
            <p:nvPr/>
          </p:nvSpPr>
          <p:spPr>
            <a:xfrm>
              <a:off x="1676520" y="434340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cieczki krajoznawczo -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urystyczne.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44956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219320" y="3581280"/>
            <a:ext cx="6933960" cy="825480"/>
            <a:chOff x="1219320" y="3581280"/>
            <a:chExt cx="6933960" cy="825480"/>
          </a:xfrm>
        </p:grpSpPr>
        <p:sp>
          <p:nvSpPr>
            <p:cNvPr id="129" name=""/>
            <p:cNvSpPr/>
            <p:nvPr/>
          </p:nvSpPr>
          <p:spPr>
            <a:xfrm>
              <a:off x="1676520" y="3581280"/>
              <a:ext cx="6476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edukacja prozdrowotna -  analiza stanu zdrowi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19320" y="37339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219320" y="2209680"/>
            <a:ext cx="6553080" cy="1557000"/>
            <a:chOff x="1219320" y="2209680"/>
            <a:chExt cx="6553080" cy="1557000"/>
          </a:xfrm>
        </p:grpSpPr>
        <p:sp>
          <p:nvSpPr>
            <p:cNvPr id="132" name=""/>
            <p:cNvSpPr/>
            <p:nvPr/>
          </p:nvSpPr>
          <p:spPr>
            <a:xfrm>
              <a:off x="1600200" y="2209680"/>
              <a:ext cx="6172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dzielanie informacji na temat dzi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jących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szkole k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zainteresow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z odbyw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ą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ych się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pozalekcyj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19320" y="2362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23520" y="990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znajemy zaw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219320"/>
            <a:ext cx="228600" cy="228600"/>
          </a:xfrm>
          <a:prstGeom prst="ellipse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43000" y="1752480"/>
            <a:ext cx="8001000" cy="2000520"/>
            <a:chOff x="1143000" y="1752480"/>
            <a:chExt cx="8001000" cy="2000520"/>
          </a:xfrm>
        </p:grpSpPr>
        <p:sp>
          <p:nvSpPr>
            <p:cNvPr id="137" name=""/>
            <p:cNvSpPr/>
            <p:nvPr/>
          </p:nvSpPr>
          <p:spPr>
            <a:xfrm>
              <a:off x="1523880" y="1752480"/>
              <a:ext cx="7620120" cy="20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sp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ganizacja „Dni Otwartych Gimnazjum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43000" y="1981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143000" y="2514600"/>
            <a:ext cx="8534520" cy="1295280"/>
            <a:chOff x="1143000" y="2514600"/>
            <a:chExt cx="8534520" cy="1295280"/>
          </a:xfrm>
        </p:grpSpPr>
        <p:sp>
          <p:nvSpPr>
            <p:cNvPr id="140" name=""/>
            <p:cNvSpPr/>
            <p:nvPr/>
          </p:nvSpPr>
          <p:spPr>
            <a:xfrm>
              <a:off x="1600200" y="2514600"/>
              <a:ext cx="80773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arsztaty: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ocne i  słabe stron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związywanie konfliktów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miejętne gospodarowanie czasem wolny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ęzyk, gesty i słowa – jak się porozumiewam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ofilaktyka uzależnień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Jak b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kreatywnym”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3000" y="27432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drug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43000" y="1219320"/>
            <a:ext cx="6934320" cy="459720"/>
            <a:chOff x="1143000" y="1219320"/>
            <a:chExt cx="6934320" cy="459720"/>
          </a:xfrm>
        </p:grpSpPr>
        <p:sp>
          <p:nvSpPr>
            <p:cNvPr id="144" name=""/>
            <p:cNvSpPr/>
            <p:nvPr/>
          </p:nvSpPr>
          <p:spPr>
            <a:xfrm>
              <a:off x="1143000" y="1219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1219320"/>
              <a:ext cx="65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westionariusz „Po nitce do kłębka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143000" y="1981080"/>
            <a:ext cx="6705720" cy="1191240"/>
            <a:chOff x="1143000" y="1981080"/>
            <a:chExt cx="6705720" cy="1191240"/>
          </a:xfrm>
        </p:grpSpPr>
        <p:sp>
          <p:nvSpPr>
            <p:cNvPr id="147" name=""/>
            <p:cNvSpPr/>
            <p:nvPr/>
          </p:nvSpPr>
          <p:spPr>
            <a:xfrm>
              <a:off x="1143000" y="21337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3880" y="1981080"/>
              <a:ext cx="632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a 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adanie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astawieni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ucznió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  konieczności podjęcia decyzji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 wyborze drogi życiowe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143000" y="3505320"/>
            <a:ext cx="7315200" cy="825480"/>
            <a:chOff x="1143000" y="3505320"/>
            <a:chExt cx="7315200" cy="825480"/>
          </a:xfrm>
        </p:grpSpPr>
        <p:sp>
          <p:nvSpPr>
            <p:cNvPr id="150" name=""/>
            <p:cNvSpPr/>
            <p:nvPr/>
          </p:nvSpPr>
          <p:spPr>
            <a:xfrm>
              <a:off x="1600200" y="350532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oznawanie zawodów – wyjścia do zakładów pracy, przedsiębiorstw, fir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3000" y="36576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143000" y="4419720"/>
            <a:ext cx="7315200" cy="825480"/>
            <a:chOff x="1143000" y="4419720"/>
            <a:chExt cx="7315200" cy="825480"/>
          </a:xfrm>
        </p:grpSpPr>
        <p:sp>
          <p:nvSpPr>
            <p:cNvPr id="153" name=""/>
            <p:cNvSpPr/>
            <p:nvPr/>
          </p:nvSpPr>
          <p:spPr>
            <a:xfrm>
              <a:off x="1600200" y="441972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oznawanie zawodów – zapraszanie ludzi posiadających ciekawe zawod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43000" y="45720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143000" y="5638680"/>
            <a:ext cx="7010280" cy="825480"/>
            <a:chOff x="1143000" y="5638680"/>
            <a:chExt cx="7010280" cy="825480"/>
          </a:xfrm>
        </p:grpSpPr>
        <p:sp>
          <p:nvSpPr>
            <p:cNvPr id="156" name=""/>
            <p:cNvSpPr/>
            <p:nvPr/>
          </p:nvSpPr>
          <p:spPr>
            <a:xfrm>
              <a:off x="1600200" y="5638680"/>
              <a:ext cx="655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yjście na Warsztaty Terapii Zaję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 Ż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3000" y="5791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143000" y="1219320"/>
            <a:ext cx="6934320" cy="459720"/>
            <a:chOff x="1143000" y="1219320"/>
            <a:chExt cx="6934320" cy="459720"/>
          </a:xfrm>
        </p:grpSpPr>
        <p:sp>
          <p:nvSpPr>
            <p:cNvPr id="159" name=""/>
            <p:cNvSpPr/>
            <p:nvPr/>
          </p:nvSpPr>
          <p:spPr>
            <a:xfrm>
              <a:off x="1143000" y="1219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3880" y="1219320"/>
              <a:ext cx="65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„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ą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k Poradnictwa Zawodowego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143000" y="1981080"/>
            <a:ext cx="6705720" cy="825480"/>
            <a:chOff x="1143000" y="1981080"/>
            <a:chExt cx="6705720" cy="825480"/>
          </a:xfrm>
        </p:grpSpPr>
        <p:sp>
          <p:nvSpPr>
            <p:cNvPr id="162" name=""/>
            <p:cNvSpPr/>
            <p:nvPr/>
          </p:nvSpPr>
          <p:spPr>
            <a:xfrm>
              <a:off x="1143000" y="1981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23880" y="1981080"/>
              <a:ext cx="63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omocja szkół ponadgimnazjalnych, zawodów na tablicy informacyjne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143000" y="3124080"/>
            <a:ext cx="7086600" cy="2931480"/>
            <a:chOff x="1143000" y="3124080"/>
            <a:chExt cx="7086600" cy="2931480"/>
          </a:xfrm>
        </p:grpSpPr>
        <p:sp>
          <p:nvSpPr>
            <p:cNvPr id="165" name=""/>
            <p:cNvSpPr/>
            <p:nvPr/>
          </p:nvSpPr>
          <p:spPr>
            <a:xfrm>
              <a:off x="1143000" y="32767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00200" y="3124080"/>
              <a:ext cx="6629400" cy="29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omunikacja interpersonalna „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sertywność – sztuka bycia sobą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soby autoprezentacji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ak być dobrym pracownikie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 Orientacji Zawodowej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zec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43000" y="1295280"/>
            <a:ext cx="6934320" cy="825480"/>
            <a:chOff x="1143000" y="1295280"/>
            <a:chExt cx="6934320" cy="825480"/>
          </a:xfrm>
        </p:grpSpPr>
        <p:sp>
          <p:nvSpPr>
            <p:cNvPr id="169" name=""/>
            <p:cNvSpPr/>
            <p:nvPr/>
          </p:nvSpPr>
          <p:spPr>
            <a:xfrm>
              <a:off x="1143000" y="14479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3880" y="1295280"/>
              <a:ext cx="655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e na Warsztaty Terapii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Ż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43000" y="2286000"/>
            <a:ext cx="6705720" cy="825480"/>
            <a:chOff x="1143000" y="2286000"/>
            <a:chExt cx="6705720" cy="825480"/>
          </a:xfrm>
        </p:grpSpPr>
        <p:sp>
          <p:nvSpPr>
            <p:cNvPr id="172" name=""/>
            <p:cNvSpPr/>
            <p:nvPr/>
          </p:nvSpPr>
          <p:spPr>
            <a:xfrm>
              <a:off x="1143000" y="24382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23880" y="2286000"/>
              <a:ext cx="63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-  wiedza uczniów o szkolnictwie ponadgimnazjalny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219320" y="4419720"/>
            <a:ext cx="7238880" cy="459720"/>
            <a:chOff x="1219320" y="4419720"/>
            <a:chExt cx="7238880" cy="459720"/>
          </a:xfrm>
        </p:grpSpPr>
        <p:sp>
          <p:nvSpPr>
            <p:cNvPr id="175" name=""/>
            <p:cNvSpPr/>
            <p:nvPr/>
          </p:nvSpPr>
          <p:spPr>
            <a:xfrm>
              <a:off x="1600200" y="441972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yjście do Urzędu Pracy w Ż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19320" y="45720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219320" y="5257800"/>
            <a:ext cx="7162560" cy="825480"/>
            <a:chOff x="1219320" y="5257800"/>
            <a:chExt cx="7162560" cy="825480"/>
          </a:xfrm>
        </p:grpSpPr>
        <p:sp>
          <p:nvSpPr>
            <p:cNvPr id="178" name=""/>
            <p:cNvSpPr/>
            <p:nvPr/>
          </p:nvSpPr>
          <p:spPr>
            <a:xfrm>
              <a:off x="1523880" y="525780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ganizacja 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na „Dni otwarte szk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ponadgimnazjal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19320" y="5410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219320" y="3352680"/>
            <a:ext cx="6095880" cy="825480"/>
            <a:chOff x="1219320" y="3352680"/>
            <a:chExt cx="6095880" cy="825480"/>
          </a:xfrm>
        </p:grpSpPr>
        <p:sp>
          <p:nvSpPr>
            <p:cNvPr id="181" name=""/>
            <p:cNvSpPr/>
            <p:nvPr/>
          </p:nvSpPr>
          <p:spPr>
            <a:xfrm>
              <a:off x="1219320" y="3505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3352680"/>
              <a:ext cx="57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a - wybór konkretnej szkoły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raz profil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3880" y="2895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219320" y="762120"/>
            <a:ext cx="6933960" cy="5176440"/>
            <a:chOff x="1219320" y="762120"/>
            <a:chExt cx="6933960" cy="5176440"/>
          </a:xfrm>
        </p:grpSpPr>
        <p:sp>
          <p:nvSpPr>
            <p:cNvPr id="185" name=""/>
            <p:cNvSpPr/>
            <p:nvPr/>
          </p:nvSpPr>
          <p:spPr>
            <a:xfrm>
              <a:off x="1219320" y="9144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23880" y="762120"/>
              <a:ext cx="6629400" cy="51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soby radzenia sobie ze strese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Bezpieczeństwo i higiena pracy  zawodowej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 Orientacji Zawodowej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ie bój się pierwszej pracy. Przygotowanie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zmow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z pracodawcą“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ystem szkolnictwa ponadgimnazjalnego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a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y rynek – duża szansa.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         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Ćwiczenia przedsiębiorczości”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ak dobrze napisać podanie, list motywacyjny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 CV?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zara” Polska – działanie rynku pracy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371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G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Ł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ÓWNY CEL PROGRAMU: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00200" y="31240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zygotowanie uczniów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iadomego wyboru szko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y oraz przysz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o zawodu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PIERWSZY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JA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DRUGI  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ZAWÓD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TRZECI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DECYZJA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PIERWSZY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4920" y="1600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rozpoznawaniu zdolności                       i umiejętności uczniów, mocnych                   oraz słabych s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327672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tywacja do rozwijania zainteresowań            i umiejęt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4572000"/>
            <a:ext cx="670572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ocja zdrowego stylu życia.                Analiza stanu zdrow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14479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świadamianie związku między osobowością (charakterem) a wyborem zawod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276720"/>
            <a:ext cx="6705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pirowanie do poszerzania wiedzy szkolnej i os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ania lepszych wynikó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 na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6094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DRUGI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wanie uczniów z różnymi zawod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895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edstawianie zawodów poszukiwanych  na rynku polskim oraz 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4267080"/>
            <a:ext cx="6629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rozpoznawaniu poziomu atrakcyjności różnych zawodów                       i specjal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53352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ormowanie o wymaganiach psychofizycznych koniecznych do podjęcia zawo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3276720"/>
            <a:ext cx="6629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ybliżanie pojęć związanych z pracą zawodową (środowisko pracy, narzędzia pracy, zadania i czynności itp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876920"/>
            <a:ext cx="6934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pirowanie uczniów do myślenia               o przyszłości i planowania swojej karier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zawodowej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05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zwój umie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n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i komunikacji, autoprezentacji oraz zachowań asertywnych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TRZECI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159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nie uczniów z czynnikami warunkującymi trafną decyzję  wyboru zawo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971800"/>
            <a:ext cx="6629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nabyciu umiejętności radzenia sobie ze stresem                       oraz postępowania  w sytuacjach trud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4648320"/>
            <a:ext cx="7162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wanie uczniów z systemem szkolnictwa ponadgimnazjalnego                  (typy szkół oraz profi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90720" y="990720"/>
            <a:ext cx="76197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edstawianie zasad rekrutacji, wymagań egzamin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289548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owanie wy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ść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a „Dni Otwar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4197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pirowanie do uzyskiwania oraz podnoszenia kwalifikacji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5:34:04Z</dcterms:created>
  <dc:creator>katyja</dc:creator>
  <dc:description/>
  <dc:language>en-US</dc:language>
  <cp:lastModifiedBy>Alicja</cp:lastModifiedBy>
  <dcterms:modified xsi:type="dcterms:W3CDTF">2004-11-18T08:18:34Z</dcterms:modified>
  <cp:revision>22</cp:revision>
  <dc:subject/>
  <dc:title>PROJEKT DZIAŁAŃ Z  ZAKRESU PREORIENTACJI ZAWODOWEJ KLASY INTEGRACYJNEJ (ROCZNIK 2003 – 2006) </dc:title>
</cp:coreProperties>
</file>