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58C-C362-419C-8512-378EB16A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157-2871-4D02-AEE8-CE3E3CCE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438-E6A6-4287-927C-89D72EBB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8D2-4419-4E75-BB7D-86CE97FA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BB04-E235-4DED-BA37-A6B228F9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585E-BD07-4D0B-934D-071E63F2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1A2B-F60F-4AB2-8329-3B82A508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9019-D713-42F6-839B-EC8DDA63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FE47-06B2-40B7-8C10-658EB7E5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90CA-8ADD-4C67-A686-28CABDE9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9C53-D463-49E3-80A5-A9203D38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B94-725F-4BE0-96C9-4E255E77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0CE7-BB67-4DC7-B508-CC8EF36B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B993-009E-4600-AB87-D5DC292D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8721-AE98-489C-A582-0EE19A36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3E8F-50DD-4757-9A95-B55EAEF1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3DDC-29E1-4879-B7F9-6665FFB0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B9B-C283-4D6B-BF87-C71A0790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68D-8EF0-4771-9700-0E94C6A2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47E-2B4D-4496-9582-356B0B6A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ABC-64AA-4A62-A09C-138ADD78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3DE-5682-4F3B-8739-5D09E789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AAB-5975-4BB6-84BE-5B62F6F5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7C1-61EC-4595-BDE5-85559B85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0249-1D00-47BD-ABDD-821A497B7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2EA0-A90F-49AC-9693-59577BFCB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4290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PROJEKT DZI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Ń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Z  ZAKRESU PREORIENTACJI ZAWODOW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KLASY INTEGRACYJN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(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CZNIK 2003 – 2006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)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221304"/>
                </a:solidFill>
                <a:latin typeface="Tahoma"/>
              </a:rPr>
              <a:t>opracował: mgr Łukasz Cieśl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90720" y="6854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1523880"/>
            <a:ext cx="6858000" cy="459720"/>
            <a:chOff x="1219320" y="1523880"/>
            <a:chExt cx="6858000" cy="459720"/>
          </a:xfrm>
        </p:grpSpPr>
        <p:sp>
          <p:nvSpPr>
            <p:cNvPr id="120" name=""/>
            <p:cNvSpPr/>
            <p:nvPr/>
          </p:nvSpPr>
          <p:spPr>
            <a:xfrm>
              <a:off x="1600200" y="152388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st zd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iedoko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zo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6765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19320" y="4952880"/>
            <a:ext cx="6324480" cy="825480"/>
            <a:chOff x="1219320" y="4952880"/>
            <a:chExt cx="6324480" cy="825480"/>
          </a:xfrm>
        </p:grpSpPr>
        <p:sp>
          <p:nvSpPr>
            <p:cNvPr id="123" name=""/>
            <p:cNvSpPr/>
            <p:nvPr/>
          </p:nvSpPr>
          <p:spPr>
            <a:xfrm>
              <a:off x="1752480" y="49528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5029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19320" y="4343400"/>
            <a:ext cx="6324480" cy="459720"/>
            <a:chOff x="1219320" y="4343400"/>
            <a:chExt cx="6324480" cy="459720"/>
          </a:xfrm>
        </p:grpSpPr>
        <p:sp>
          <p:nvSpPr>
            <p:cNvPr id="126" name=""/>
            <p:cNvSpPr/>
            <p:nvPr/>
          </p:nvSpPr>
          <p:spPr>
            <a:xfrm>
              <a:off x="1676520" y="4343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cieczki krajoznawczo -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urystyczne.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44956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19320" y="3581280"/>
            <a:ext cx="6933960" cy="825480"/>
            <a:chOff x="1219320" y="3581280"/>
            <a:chExt cx="6933960" cy="825480"/>
          </a:xfrm>
        </p:grpSpPr>
        <p:sp>
          <p:nvSpPr>
            <p:cNvPr id="129" name=""/>
            <p:cNvSpPr/>
            <p:nvPr/>
          </p:nvSpPr>
          <p:spPr>
            <a:xfrm>
              <a:off x="1676520" y="3581280"/>
              <a:ext cx="647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dukacja prozdrowotna -  analiza stanu zdrowi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3733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19320" y="2209680"/>
            <a:ext cx="6553080" cy="1557000"/>
            <a:chOff x="1219320" y="2209680"/>
            <a:chExt cx="6553080" cy="1557000"/>
          </a:xfrm>
        </p:grpSpPr>
        <p:sp>
          <p:nvSpPr>
            <p:cNvPr id="132" name=""/>
            <p:cNvSpPr/>
            <p:nvPr/>
          </p:nvSpPr>
          <p:spPr>
            <a:xfrm>
              <a:off x="1600200" y="2209680"/>
              <a:ext cx="617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dzielanie informacji na temat dzi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jących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szkole 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zainteresow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z odbyw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ych się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zalekcyj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9320" y="2362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2352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znajemy zaw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219320"/>
            <a:ext cx="228600" cy="228600"/>
          </a:xfrm>
          <a:prstGeom prst="ellipse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1752480"/>
            <a:ext cx="8001000" cy="2000520"/>
            <a:chOff x="1143000" y="1752480"/>
            <a:chExt cx="8001000" cy="2000520"/>
          </a:xfrm>
        </p:grpSpPr>
        <p:sp>
          <p:nvSpPr>
            <p:cNvPr id="137" name=""/>
            <p:cNvSpPr/>
            <p:nvPr/>
          </p:nvSpPr>
          <p:spPr>
            <a:xfrm>
              <a:off x="1523880" y="1752480"/>
              <a:ext cx="7620120" cy="20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sp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„Dni Otwartych Gimnazjum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43000" y="2514600"/>
            <a:ext cx="8534520" cy="1295280"/>
            <a:chOff x="1143000" y="2514600"/>
            <a:chExt cx="8534520" cy="1295280"/>
          </a:xfrm>
        </p:grpSpPr>
        <p:sp>
          <p:nvSpPr>
            <p:cNvPr id="140" name=""/>
            <p:cNvSpPr/>
            <p:nvPr/>
          </p:nvSpPr>
          <p:spPr>
            <a:xfrm>
              <a:off x="1600200" y="2514600"/>
              <a:ext cx="8077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arsztaty: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cne i  słabe stron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wiązywanie konfliktów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miejętne gospodarowanie czasem wolny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ęzyk, gesty i słowa – jak się porozumiewam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filaktyka uzależnień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Jak b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kreatywnym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2743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44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westionariusz „Po nitce do kłębka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143000" y="1981080"/>
            <a:ext cx="6705720" cy="1191240"/>
            <a:chOff x="1143000" y="1981080"/>
            <a:chExt cx="6705720" cy="1191240"/>
          </a:xfrm>
        </p:grpSpPr>
        <p:sp>
          <p:nvSpPr>
            <p:cNvPr id="147" name=""/>
            <p:cNvSpPr/>
            <p:nvPr/>
          </p:nvSpPr>
          <p:spPr>
            <a:xfrm>
              <a:off x="1143000" y="2133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1981080"/>
              <a:ext cx="632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danie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astawieni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ucznió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  konieczności podjęcia decyzji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 wyborze drogi życiow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143000" y="3505320"/>
            <a:ext cx="7315200" cy="825480"/>
            <a:chOff x="1143000" y="3505320"/>
            <a:chExt cx="7315200" cy="825480"/>
          </a:xfrm>
        </p:grpSpPr>
        <p:sp>
          <p:nvSpPr>
            <p:cNvPr id="150" name=""/>
            <p:cNvSpPr/>
            <p:nvPr/>
          </p:nvSpPr>
          <p:spPr>
            <a:xfrm>
              <a:off x="1600200" y="35053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wyjścia do zakładów pracy, przedsiębiorstw, fir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3000" y="36576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143000" y="4419720"/>
            <a:ext cx="7315200" cy="825480"/>
            <a:chOff x="1143000" y="4419720"/>
            <a:chExt cx="7315200" cy="825480"/>
          </a:xfrm>
        </p:grpSpPr>
        <p:sp>
          <p:nvSpPr>
            <p:cNvPr id="153" name=""/>
            <p:cNvSpPr/>
            <p:nvPr/>
          </p:nvSpPr>
          <p:spPr>
            <a:xfrm>
              <a:off x="1600200" y="44197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zapraszanie ludzi posiadających ciekawe zawod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43000" y="5638680"/>
            <a:ext cx="7010280" cy="825480"/>
            <a:chOff x="1143000" y="5638680"/>
            <a:chExt cx="7010280" cy="825480"/>
          </a:xfrm>
        </p:grpSpPr>
        <p:sp>
          <p:nvSpPr>
            <p:cNvPr id="156" name=""/>
            <p:cNvSpPr/>
            <p:nvPr/>
          </p:nvSpPr>
          <p:spPr>
            <a:xfrm>
              <a:off x="1600200" y="563868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na Warsztaty Terapii Zaję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5791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59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k Poradnictwa Zawodowego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143000" y="1981080"/>
            <a:ext cx="6705720" cy="825480"/>
            <a:chOff x="1143000" y="1981080"/>
            <a:chExt cx="6705720" cy="825480"/>
          </a:xfrm>
        </p:grpSpPr>
        <p:sp>
          <p:nvSpPr>
            <p:cNvPr id="162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198108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mocja szkół ponadgimnazjalnych, zawodów na tablicy informacyjn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143000" y="3124080"/>
            <a:ext cx="7086600" cy="2931480"/>
            <a:chOff x="1143000" y="3124080"/>
            <a:chExt cx="7086600" cy="2931480"/>
          </a:xfrm>
        </p:grpSpPr>
        <p:sp>
          <p:nvSpPr>
            <p:cNvPr id="165" name=""/>
            <p:cNvSpPr/>
            <p:nvPr/>
          </p:nvSpPr>
          <p:spPr>
            <a:xfrm>
              <a:off x="1143000" y="3276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0200" y="3124080"/>
              <a:ext cx="6629400" cy="29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omunikacja interpersonalna „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sertywność – sztuka bycia sobą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autoprezentacji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być dobrym pracowniki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zec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1295280"/>
            <a:ext cx="6934320" cy="825480"/>
            <a:chOff x="1143000" y="1295280"/>
            <a:chExt cx="6934320" cy="825480"/>
          </a:xfrm>
        </p:grpSpPr>
        <p:sp>
          <p:nvSpPr>
            <p:cNvPr id="169" name=""/>
            <p:cNvSpPr/>
            <p:nvPr/>
          </p:nvSpPr>
          <p:spPr>
            <a:xfrm>
              <a:off x="1143000" y="1447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1295280"/>
              <a:ext cx="655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43000" y="2286000"/>
            <a:ext cx="6705720" cy="825480"/>
            <a:chOff x="1143000" y="2286000"/>
            <a:chExt cx="6705720" cy="825480"/>
          </a:xfrm>
        </p:grpSpPr>
        <p:sp>
          <p:nvSpPr>
            <p:cNvPr id="172" name=""/>
            <p:cNvSpPr/>
            <p:nvPr/>
          </p:nvSpPr>
          <p:spPr>
            <a:xfrm>
              <a:off x="1143000" y="24382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3880" y="228600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-  wiedza uczniów o szkolnictwie ponadgimnazjalny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19320" y="4419720"/>
            <a:ext cx="7238880" cy="459720"/>
            <a:chOff x="1219320" y="4419720"/>
            <a:chExt cx="7238880" cy="459720"/>
          </a:xfrm>
        </p:grpSpPr>
        <p:sp>
          <p:nvSpPr>
            <p:cNvPr id="175" name=""/>
            <p:cNvSpPr/>
            <p:nvPr/>
          </p:nvSpPr>
          <p:spPr>
            <a:xfrm>
              <a:off x="1600200" y="441972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do Urzędu Pracy 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219320" y="5257800"/>
            <a:ext cx="7162560" cy="825480"/>
            <a:chOff x="1219320" y="5257800"/>
            <a:chExt cx="7162560" cy="825480"/>
          </a:xfrm>
        </p:grpSpPr>
        <p:sp>
          <p:nvSpPr>
            <p:cNvPr id="178" name=""/>
            <p:cNvSpPr/>
            <p:nvPr/>
          </p:nvSpPr>
          <p:spPr>
            <a:xfrm>
              <a:off x="1523880" y="525780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a „Dni otwarte sz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nadgimnazjal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9320" y="5410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19320" y="3352680"/>
            <a:ext cx="6095880" cy="825480"/>
            <a:chOff x="1219320" y="3352680"/>
            <a:chExt cx="6095880" cy="825480"/>
          </a:xfrm>
        </p:grpSpPr>
        <p:sp>
          <p:nvSpPr>
            <p:cNvPr id="181" name=""/>
            <p:cNvSpPr/>
            <p:nvPr/>
          </p:nvSpPr>
          <p:spPr>
            <a:xfrm>
              <a:off x="1219320" y="3505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33526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- wybór konkretnej szkoły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raz profi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2895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19320" y="762120"/>
            <a:ext cx="6933960" cy="5176440"/>
            <a:chOff x="1219320" y="762120"/>
            <a:chExt cx="6933960" cy="5176440"/>
          </a:xfrm>
        </p:grpSpPr>
        <p:sp>
          <p:nvSpPr>
            <p:cNvPr id="185" name=""/>
            <p:cNvSpPr/>
            <p:nvPr/>
          </p:nvSpPr>
          <p:spPr>
            <a:xfrm>
              <a:off x="1219320" y="9144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3880" y="762120"/>
              <a:ext cx="6629400" cy="51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radzenia sobie ze stres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ezpieczeństwo i higiena pracy 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ie bój się pierwszej pracy. Przygotowanie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mow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z pracodawcą“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ystem szkolnictwa ponadgimnazjalneg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 rynek – duża szansa.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Ćwiczenia przedsiębiorczości”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dobrze napisać podanie, list motywacyjny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 CV?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zara” Polska – działanie rynku pracy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G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ÓWNY CEL PROGRAMU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zygotowanie uczniów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iadomego wyboru szk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y oraz przysz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o zawodu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 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ZAWÓD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TRZECI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DECYZ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PIERWSZY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4920" y="1600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zdolności                       i umiejętności uczniów, mocnych                   oraz słabych s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2767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ywacja do rozwijania zainteresowań            i umiejęt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572000"/>
            <a:ext cx="6705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ocja zdrowego stylu życia.                Analiza stanu zdrow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1447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świadamianie związku między osobowością (charakterem) a wyborem zawo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276720"/>
            <a:ext cx="67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poszerzania wiedzy szkolnej i os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nia lepszych wynikó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 na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6094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DRUGI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różnymi zawod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wodów poszukiwanych  na rynku polskim oraz 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267080"/>
            <a:ext cx="6629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poziomu atrakcyjności różnych zawodów                       i specjal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53352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owanie o wymaganiach psychofizycznych koniecznych do podjęcia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27672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ybliżanie pojęć związanych z pracą zawodową (środowisko pracy, narzędzia pracy, zadania i czynności itp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876920"/>
            <a:ext cx="6934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pirowanie uczniów do myślenia               o przyszłości i planowania swojej karier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zawodowej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zwój umie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i komunikacji, autoprezentacji oraz zachowań asertywnych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TRZECI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nie uczniów z czynnikami warunkującymi trafną decyzję  wyboru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7180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nabyciu umiejętności radzenia sobie ze stresem                       oraz postępowania  w sytuacjach trud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648320"/>
            <a:ext cx="716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systemem szkolnictwa ponadgimnazjalnego                  (typy szkół oraz prof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619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sad rekrutacji, wymagań egzamin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owanie wy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a „Dni Otwar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uzyskiwania oraz podnoszenia kwalifikacji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34:04Z</dcterms:created>
  <dc:creator>katyja</dc:creator>
  <dc:description/>
  <dc:language>en-US</dc:language>
  <cp:lastModifiedBy>Alicja</cp:lastModifiedBy>
  <dcterms:modified xsi:type="dcterms:W3CDTF">2004-11-18T08:18:34Z</dcterms:modified>
  <cp:revision>22</cp:revision>
  <dc:subject/>
  <dc:title>PROJEKT DZIAŁAŃ Z  ZAKRESU PREORIENTACJI ZAWODOWEJ KLASY INTEGRACYJNEJ (ROCZNIK 2003 – 2006) </dc:title>
</cp:coreProperties>
</file>