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AE5E-9F6E-4A76-9FC6-E926AE4AD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4496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C065-A99D-4CFC-B584-61701904E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19436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378E-37EE-426A-B39B-118FEA6C6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7836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4268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7836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24268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1B3A-80E7-415C-80A7-0D690DF49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40BF2-D790-415C-8AB2-7AB8FF5A0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A6196-3CB2-4AC4-A634-066614E8D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683AC-017A-42FE-8BC0-B6809C214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CBB48-9CA7-403D-8C0E-A43D99C5D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35CC4-6055-483F-9F19-810ADD5F6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520" y="1523520"/>
            <a:ext cx="723924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E3963-8B8C-4A0A-9F81-B23B4258D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1440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A023F-A4ED-434C-94BD-ED3DA43BF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D024-A61F-4A5B-A055-54CFF4BC7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19436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CA243-5F90-403E-9879-C06D92ECF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400" y="4496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53A8C-5465-4791-9225-C1B98E910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14400" y="4496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FB4BE-E171-4E5F-A74D-2DBA836B8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19436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8CD19-8D9D-4654-83F9-8ED30F152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7836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24268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1440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7836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24268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6753F-661B-48D0-90DF-D6CD0F29B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C7BC-6958-4B17-8419-49BF0E044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2523-FF94-485E-81EB-8DD2E4870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0579-838D-43F3-9EEF-65271AEDA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1523520"/>
            <a:ext cx="723924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9504-1FD7-4A0F-9BA6-0F90FB224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3F1D-7D39-4984-A2A6-AACC84D3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9436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E78C-6D72-4930-9A72-E1E0E80DA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4496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E1AE-DCD6-4F3F-91F3-731EC9DEC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9B3AB-CBAB-4E01-A78C-BFA16AFF0152}" type="slidenum"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90E49-EE98-4953-AC68-7174F6230C18}" type="slidenum"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46363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6363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600200" y="1219320"/>
            <a:ext cx="6629400" cy="35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„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OGRÓDEK SKALNY”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 Black"/>
              </a:rPr>
              <a:t>-projekt działań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83" name=""/>
          <p:cNvSpPr/>
          <p:nvPr/>
        </p:nvSpPr>
        <p:spPr>
          <a:xfrm>
            <a:off x="1676520" y="586728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Opracowała: mgr Iwona Hendrysiak</a:t>
            </a:r>
            <a:r>
              <a:rPr b="0" lang="pl-PL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523880" y="9144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Stwórzcie go!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200400" y="14479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Dbajcie o niego!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90920" y="533412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Podziwiajcie go!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58672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Obserwujcie go!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88" name="iw4" descr=""/>
          <p:cNvPicPr/>
          <p:nvPr/>
        </p:nvPicPr>
        <p:blipFill>
          <a:blip r:embed="rId2"/>
          <a:stretch/>
        </p:blipFill>
        <p:spPr>
          <a:xfrm>
            <a:off x="1905120" y="2133720"/>
            <a:ext cx="4378320" cy="31096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523880" y="91440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Cele wychowawcze:</a:t>
            </a:r>
            <a:r>
              <a:rPr b="0" lang="en-US" sz="4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43000" y="1905120"/>
            <a:ext cx="64008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U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wra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ż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liwienie ucznia na pi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kno przyrody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N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abycie umiej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tno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ci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łą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czenia nauki, pracy, zabawy i wypoczynku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N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abycie umiej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tno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ci organizowania czasu wolnego.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143000" y="30492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Cele szczegó</a:t>
            </a:r>
            <a:r>
              <a:rPr b="0" lang="en-US" sz="4400" spc="-1" strike="noStrike">
                <a:solidFill>
                  <a:srgbClr val="463634"/>
                </a:solidFill>
                <a:latin typeface="Comic Sans MS"/>
              </a:rPr>
              <a:t>ł</a:t>
            </a:r>
            <a:r>
              <a:rPr b="0" lang="en-US" sz="4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owe: 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1143000"/>
            <a:ext cx="807732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Uczy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ć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jak obserwowa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ć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przyrod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Roz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wija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ć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wyobra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ź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ni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Tworzy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ć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wi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zi cz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ł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owieka z natur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ą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Uczy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ć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si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jak pracowa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ć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Uczy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ć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si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d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ąż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enia do osi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ą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gania celów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Uczy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ć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si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odpowiedzialno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ci.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Obserwowa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ć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predyspozycje zawodowe uczniów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niepe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ł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nosprawnych i pe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ł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nosprawnych.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Wymienia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ć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si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projektami, ro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linami, ska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ł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ami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          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z innymi szko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ł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ami (partnerami projektu Comenius).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219320" y="304920"/>
            <a:ext cx="647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Realizacja projektu.</a:t>
            </a:r>
            <a:r>
              <a:rPr b="0" lang="en-US" sz="4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66680" y="1828800"/>
            <a:ext cx="807732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Piel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gnacja ro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lin.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Podlewanie.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Pielenie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Podcinanie krzewów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Lokalizacja nowych ska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ł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ek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Obserwacja przyrody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Og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ł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oszenie konkursu fotograficznego” Skalniak i cztery pory roku”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Zakup nowych ro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lin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29528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Wiosna</a:t>
            </a:r>
            <a:r>
              <a:rPr b="0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: spotkania raz w tygodniu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219320" y="304920"/>
            <a:ext cx="647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Realizacja projektu.</a:t>
            </a:r>
            <a:r>
              <a:rPr b="0" lang="en-US" sz="4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21932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Lato</a:t>
            </a:r>
            <a:r>
              <a:rPr b="1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: ograniczona ilo</a:t>
            </a:r>
            <a:r>
              <a:rPr b="1" lang="en-US" sz="2400" spc="-1" strike="noStrike">
                <a:solidFill>
                  <a:srgbClr val="463634"/>
                </a:solidFill>
                <a:latin typeface="Comic Sans MS"/>
              </a:rPr>
              <a:t>ść</a:t>
            </a:r>
            <a:r>
              <a:rPr b="1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spotka</a:t>
            </a:r>
            <a:r>
              <a:rPr b="1" lang="en-US" sz="2400" spc="-1" strike="noStrike">
                <a:solidFill>
                  <a:srgbClr val="463634"/>
                </a:solidFill>
                <a:latin typeface="Comic Sans MS"/>
              </a:rPr>
              <a:t>ń</a:t>
            </a:r>
            <a:r>
              <a:rPr b="1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, dy</a:t>
            </a:r>
            <a:r>
              <a:rPr b="1" lang="en-US" sz="2400" spc="-1" strike="noStrike">
                <a:solidFill>
                  <a:srgbClr val="463634"/>
                </a:solidFill>
                <a:latin typeface="Comic Sans MS"/>
              </a:rPr>
              <a:t>ż</a:t>
            </a:r>
            <a:r>
              <a:rPr b="1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ury.</a:t>
            </a:r>
            <a:r>
              <a:rPr b="0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98" name="iw5" descr=""/>
          <p:cNvPicPr/>
          <p:nvPr/>
        </p:nvPicPr>
        <p:blipFill>
          <a:blip r:embed="rId2"/>
          <a:stretch/>
        </p:blipFill>
        <p:spPr>
          <a:xfrm>
            <a:off x="304920" y="1905120"/>
            <a:ext cx="3962160" cy="2685960"/>
          </a:xfrm>
          <a:prstGeom prst="rect">
            <a:avLst/>
          </a:prstGeom>
          <a:ln w="0">
            <a:noFill/>
          </a:ln>
        </p:spPr>
      </p:pic>
      <p:pic>
        <p:nvPicPr>
          <p:cNvPr id="99" name="iw3" descr=""/>
          <p:cNvPicPr/>
          <p:nvPr/>
        </p:nvPicPr>
        <p:blipFill>
          <a:blip r:embed="rId3"/>
          <a:stretch/>
        </p:blipFill>
        <p:spPr>
          <a:xfrm>
            <a:off x="4343400" y="3809880"/>
            <a:ext cx="3978360" cy="2727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219320" y="304920"/>
            <a:ext cx="647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Realizacja projektu.</a:t>
            </a:r>
            <a:r>
              <a:rPr b="0" lang="en-US" sz="4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1523880"/>
            <a:ext cx="8534520" cy="52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Stworzenie grupy opiekuj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ą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cej si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ogrodem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Piel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gnacja ro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lin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Podlewanie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Grabienie li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ci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Podcinanie krzewów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Lokalizacja nowych ska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ł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ek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Obserwacja przyrody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463634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Zabezpieczenie ro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lin przed zim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ą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463634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Wycieczka na Klimczok w celu obserwacji Ogrodu Ro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lin Skalnych i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Górskich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129528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3634"/>
                </a:solidFill>
                <a:latin typeface="Comic Sans MS"/>
              </a:rPr>
              <a:t>Jesień</a:t>
            </a:r>
            <a:r>
              <a:rPr b="0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: </a:t>
            </a:r>
            <a:r>
              <a:rPr b="1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spotkania raz w tygodniu.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219320" y="304920"/>
            <a:ext cx="647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Realizacja projektu.</a:t>
            </a:r>
            <a:r>
              <a:rPr b="0" lang="en-US" sz="4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1828800"/>
            <a:ext cx="853452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Wymiana do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wiadcze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ń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Og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ł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oszenie wyników Konkursu Fotograficznego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Zbieranie wiadomo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ci na temat wymaga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ń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ro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lin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Obserwacja przyrody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Klasyfikacja ro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lin.</a:t>
            </a:r>
            <a:r>
              <a:rPr b="1" lang="en-US" sz="1800" spc="-1" strike="noStrike">
                <a:solidFill>
                  <a:srgbClr val="463634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1295280"/>
            <a:ext cx="701064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Zima</a:t>
            </a:r>
            <a:r>
              <a:rPr b="0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: spotkania raz w miesi</a:t>
            </a:r>
            <a:r>
              <a:rPr b="0" lang="en-US" sz="2400" spc="-1" strike="noStrike">
                <a:solidFill>
                  <a:srgbClr val="463634"/>
                </a:solidFill>
                <a:latin typeface="Comic Sans MS"/>
              </a:rPr>
              <a:t>ą</a:t>
            </a:r>
            <a:r>
              <a:rPr b="0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cu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106" name="iw2" descr=""/>
          <p:cNvPicPr/>
          <p:nvPr/>
        </p:nvPicPr>
        <p:blipFill>
          <a:blip r:embed="rId2"/>
          <a:stretch/>
        </p:blipFill>
        <p:spPr>
          <a:xfrm>
            <a:off x="3276720" y="3505320"/>
            <a:ext cx="4452840" cy="3124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6T17:28:15Z</dcterms:created>
  <dc:creator>katyja</dc:creator>
  <dc:description/>
  <dc:language>en-US</dc:language>
  <cp:lastModifiedBy>katyja</cp:lastModifiedBy>
  <dcterms:modified xsi:type="dcterms:W3CDTF">2004-11-17T15:59:33Z</dcterms:modified>
  <cp:revision>7</cp:revision>
  <dc:subject/>
  <dc:title>Prezentacja programu PowerPoint</dc:title>
</cp:coreProperties>
</file>