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7E7-BE31-4F96-A2B5-EDE3C04D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8D3-9E56-41B5-A4EA-B7999363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5E6-B61F-4E9B-9AC4-135603E9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297-2595-4195-B729-7F0AB7A9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9ABF-6E83-4167-8EE1-58AE21EE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EEC5-CB45-4B64-80E7-8E87CA2F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3269-7DB3-4989-9411-DE4F6711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5EE4-11A8-4BC2-B5F6-1C41FEA8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0B2A-EA19-4CEA-B292-4E3E5B0F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8089-EF65-4ACA-8170-33B41C07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E6C6-7C29-4693-A080-77D70642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70A-3D6B-4D84-AF5B-7F48181D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06DD-9158-4400-B9F2-1812A985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7BA7-2D90-48C6-A8AD-5F7979A5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CA65-AE18-4005-BFB5-746C93A7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5799-6FDB-4645-82F0-A58691AD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F3C0-357E-448D-909D-0B52A136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4D1-4356-4EA3-859D-44AEE6AE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E87-E59F-4597-A81F-31A9B7A2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744-F9F9-40B4-B60B-ABD015A0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899-DBFE-4A12-AAD8-F61A955F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B17-F3A8-4780-83EB-A6F1E3E4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11EB-1965-459B-855D-D5D37EC3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14B-B237-40CE-AA4B-555FDCBB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D0FC-0FDC-4D86-9222-8D2C24AB895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0EC3-6995-4643-92AF-FA32869DBD58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90512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OJEKT DZI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ZAKRESU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EORIENTACJI ZAWODOWEJ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DLA UCZNIÓW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NIEP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OSPRAWNO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C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TELEKTUALN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pedagogiczne: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13372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bezpiecz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two pra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ozwijanie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zainteresow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(prace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anualne,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plastyczne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szt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towanie estetyki wykonywanych prac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otywowanie do samodzie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konsekwencji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ytrw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do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d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twórczych posta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operacyjne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82880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projektem dotyczącym wyboru przyszłego zawod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zasad funkcjonowania pracowni introligatorskiej na Warsztatach Terapii Zajęciowej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y drukarz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konserwacja i oprawianie zniszczonych książ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odukcja opakowa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odukcja notesów i zeszytó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erwsz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74320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tworzenie grup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się z poziomem i możliwościami uczni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głównymi celami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eprowadzenie w szkole warsztatów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zygotowanie do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drug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836720"/>
            <a:ext cx="8001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owni introligatorskiej, zasad jej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funkcjonowani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integracja z uczestnikami warsztat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z maszynami znajdującymi się w pracown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interesowanie uczniów pracami introligatorskim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powstaje książka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 zeszytów ze skład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kładki na książkę: przycinanie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, n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ładanie czcionki, zdobnictw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nserwacja i naprawa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29528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cia w pracowni introligatorskiej –  I etap projektu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ahom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trzec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oprowadzenie uczniów po zakładz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zadaniami pracownik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poznanie z funkcjonowaniem i przeznaczeniem maszy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295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owadzone w drukarni Oldprint w 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ra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czwar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zrobić torebkę na prezenty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pakowań na prezent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zdabianie torebek w stylu zgodnym  z ich przeznaczeniem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y pełnym wykorzystaniu własnej inwencji twórczej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91440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ezent w efektownym opakowani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zeprowadzane  w Zespole Szk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 n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 8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zleconych prac introligatorski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notesów i zeszytów przy u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yciu gilotyny,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bindowni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prawianie i naprawa ksi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 ze szkolnej biblioteki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9907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zkoln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 Introligatorski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51:13Z</dcterms:created>
  <dc:creator>katyja</dc:creator>
  <dc:description/>
  <dc:language>en-US</dc:language>
  <cp:lastModifiedBy>g8</cp:lastModifiedBy>
  <dcterms:modified xsi:type="dcterms:W3CDTF">2004-11-19T09:29:40Z</dcterms:modified>
  <cp:revision>9</cp:revision>
  <dc:subject/>
  <dc:title>Prezentacja programu PowerPoint</dc:title>
</cp:coreProperties>
</file>