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584-CDA4-47E8-B4C7-D61FEEF5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980-DE53-4516-9EEC-B3EE1F64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F77-068B-45BD-8860-9C28B36B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13E1-E66D-4121-A5C9-460E5AE6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22AD-0C77-4D58-8D6D-EF0FC469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68B8-1AA2-4918-AF4F-6564C36A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D747-492E-422A-B37E-0C0381C1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E08C-B3C7-4578-ADAE-5EE3F997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62AE-079B-41CA-895F-12449425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1BB6-AAEE-4CF7-B64F-FB9E2DC7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58B9-5298-42DA-B221-AC42E489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A97-9D19-4762-BFD0-BD601979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2D74-5CCB-4868-B3A3-4A6296BA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E772-A44C-4A32-A097-9F216628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C60E-BC5A-4CC6-96E2-35A9A5E0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7667-42A4-45A6-9025-8B4FA809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0104-04CF-47B8-B265-91BFCD73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EFA-B8BA-4D66-8600-B11FDDAD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97B-2BFE-4434-88D7-87D89730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85D-61D8-44A3-9189-B9D4A713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2AE-EE66-4317-B1CB-B2C3528C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0C6-4AFC-4FE5-8BA7-BFE0970B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DC33-AACF-4C1A-993B-64605B93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BF9-8D1C-4A0E-B9D4-BC6E8552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7A03-1B93-48C9-8BF2-DF1B5BDF07EB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A61A-D8C6-4EF7-B6D7-59E19751910C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0200" y="1219320"/>
            <a:ext cx="6629400" cy="35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„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GRÓDEK SKALNY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-projekt działań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pracowała: mgr Iwona Hendrysiak</a:t>
            </a:r>
            <a:r>
              <a:rPr b="0" lang="pl-PL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3880" y="914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órz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Dbajcie o nie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53341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ziwia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867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u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8" name="iw4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4378320" cy="310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9144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wychowawcze:</a:t>
            </a:r>
            <a:r>
              <a:rPr b="0" lang="en-US" sz="4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905120"/>
            <a:ext cx="6400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U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wienie ucznia na p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no przyrody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zenia nauki, pracy, zabawy i wypoczynk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organizowania czasu wolnego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3049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szczegó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e: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143000"/>
            <a:ext cx="807732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zyro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Ro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j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yob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ź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wor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 c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ieka z natur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prac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nia do o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ania celów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dpowiedzial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edyspozycje zawodowe uczniów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e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 i 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eni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ojektami, r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ami, sk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          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 innymi szk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(partnerami projektu Comenius)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828800"/>
            <a:ext cx="80773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e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konkursu fotograficznego” Skalniak i cztery pory roku”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kup nowych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osn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tygodni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at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ograniczona il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ść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potka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, dy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ry.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8" name="iw5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3962160" cy="2685960"/>
          </a:xfrm>
          <a:prstGeom prst="rect">
            <a:avLst/>
          </a:prstGeom>
          <a:ln w="0">
            <a:noFill/>
          </a:ln>
        </p:spPr>
      </p:pic>
      <p:pic>
        <p:nvPicPr>
          <p:cNvPr id="99" name="iw3" descr=""/>
          <p:cNvPicPr/>
          <p:nvPr/>
        </p:nvPicPr>
        <p:blipFill>
          <a:blip r:embed="rId3"/>
          <a:stretch/>
        </p:blipFill>
        <p:spPr>
          <a:xfrm>
            <a:off x="4343400" y="3809880"/>
            <a:ext cx="397836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523880"/>
            <a:ext cx="853452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orzenie grupy opiekuj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j s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grodem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rabienie l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bezpieczenie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przed zim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cieczka na Klimczok w celu obserwacji Ogrodu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Skalnych 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órskich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</a:rPr>
              <a:t>Jesień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potkania raz w tygodniu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828800"/>
            <a:ext cx="8534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ana d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adcze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wyników Konkursu Fotograficznego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bieranie wiadom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na temat wymag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lasyfik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1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95280"/>
            <a:ext cx="7010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m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miesi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6" name="iw2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445284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7:28:15Z</dcterms:created>
  <dc:creator>katyja</dc:creator>
  <dc:description/>
  <dc:language>en-US</dc:language>
  <cp:lastModifiedBy>katyja</cp:lastModifiedBy>
  <dcterms:modified xsi:type="dcterms:W3CDTF">2004-11-17T15:59:33Z</dcterms:modified>
  <cp:revision>7</cp:revision>
  <dc:subject/>
  <dc:title>Prezentacja programu PowerPoint</dc:title>
</cp:coreProperties>
</file>