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785-D851-4B5F-9857-14EEF4E0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554-76CC-4B7D-8136-3C103064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21B-9429-43A7-A455-61D4CB52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EC8-80E5-4216-A079-E42FFF53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652E-85E7-4D9F-8390-2E0F2009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144F-827E-462B-926F-41215574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AAFD-E3F2-468F-A183-3188CBB3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710D-3BF1-4FDC-870E-809EE512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31DE-8429-4982-B07D-16A1ADA1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A0AB-D5AD-4562-853B-402A703E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0BF0-E799-431D-9E1C-B3A02529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E93-6CA9-4910-8EE4-286C3822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4C29-F563-4229-A8ED-136C6674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18FC-D235-4B95-ADCC-DF529178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D5AD-C4EB-4F5C-BD33-A41C9DD5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8B75-3DB3-42EC-87DC-3325A27E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874A-B48D-4097-9002-171A26D2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F81-EF33-44D1-9186-225D4406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EC1-26E1-4700-82FA-7892CBD8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B4D-61B5-45AD-A855-37E6BF2F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7AE4-90EB-4C57-8FC8-42C5D2CA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F08-4BCA-4937-97A6-0C8B901F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819A-5D47-442A-8AEE-B93936C7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C71-0961-4854-9F1A-6748548A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204E-CDFB-4DFC-90F2-3F0ED8A3BFA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5F84-7026-4262-AFC4-560BA98C378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90512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OJEKT DZI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ZAKRESU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EORIENTACJI ZAWODOWEJ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DLA UCZNIÓW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NIEP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OSPRAWNO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C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TELEKTUALN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pedagogiczne: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133720"/>
            <a:ext cx="754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bezpiecz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two pra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ozwijanie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zainteresow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(prace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anualne,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plastyczne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szt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towanie estetyki wykonywanych prac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otywowanie do samodzie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konsekwencji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ytrw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do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d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twórczych posta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operacyjne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82880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projektem dotyczącym wyboru przyszłego zawod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zasad funkcjonowania pracowni introligatorskiej na Warsztatach Terapii Zajęciowej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y drukarz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konserwacja i oprawianie zniszczonych książ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odukcja opakowa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odukcja notesów i zeszytó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erwsz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74320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tworzenie grup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się z poziomem i możliwościami uczni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głównymi celami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eprowadzenie w szkole warsztatów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295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zygotowanie do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drug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836720"/>
            <a:ext cx="8001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owni introligatorskiej, zasad jej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funkcjonowani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integracja z uczestnikami warsztat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z maszynami znajdującymi się w pracown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interesowanie uczniów pracami introligatorskim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powstaje książka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 zeszytów ze skład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kładki na książkę: przycinanie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, n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ładanie czcionki, zdobnictw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nserwacja i naprawa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29528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cia w pracowni introligatorskiej –  I etap projektu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ahom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trzec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oprowadzenie uczniów po zakładz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zadaniami pracownik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poznanie z funkcjonowaniem i przeznaczeniem maszy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295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owadzone w drukarni Oldprint w 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ra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czwar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0481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zrobić torebkę na prezenty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pakowań na prezent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zdabianie torebek w stylu zgodnym  z ich przeznaczeniem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y pełnym wykorzystaniu własnej inwencji twórczej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91440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ezent w efektownym opakowani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zeprowadzane  w Zespole Szk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 n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 8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zleconych prac introligatorski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notesów i zeszytów przy u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yciu gilotyny,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bindowni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prawianie i naprawa ksi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 ze szkolnej biblioteki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9907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zkoln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 Introligatorski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51:13Z</dcterms:created>
  <dc:creator>katyja</dc:creator>
  <dc:description/>
  <dc:language>en-US</dc:language>
  <cp:lastModifiedBy>g8</cp:lastModifiedBy>
  <dcterms:modified xsi:type="dcterms:W3CDTF">2004-11-19T09:29:40Z</dcterms:modified>
  <cp:revision>9</cp:revision>
  <dc:subject/>
  <dc:title>Prezentacja programu PowerPoint</dc:title>
</cp:coreProperties>
</file>