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68E-4687-4116-B22B-BFDAFA64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73B-BF2C-4249-8FD8-ECACCDC3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D8B-3AEE-4B5B-B7AF-7ED7D46F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13D-16FC-404D-954E-820D9FAE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6B97E-A582-4CA3-B2FB-A5791507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D80C-B7FD-4D37-B781-8F41BFF0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53308-E249-434E-AE2D-0726B98F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5E0A-BD99-452B-B824-8B68EF6C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49F0-82AA-4C92-9284-85300533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1AEE-BF7E-49F4-9D9E-49C5A791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AD73-C2D1-4B53-92C9-2A3A808F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19F-1B1B-41D1-958B-4A5C6823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4168-9728-4FF6-B81D-9B933717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20B1-0B65-4649-959B-B54D4124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453D5-26EB-4597-B5DD-36657ADD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175B-C4E7-45C0-B45C-3D913B8D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A163-E289-4CA3-91DD-EB14E7DE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BB5-BC48-4D04-844F-2BA84C37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31C-5295-454B-9D9B-7B1E83E4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1AE4-69B5-4C98-B311-16A0953B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4F6C-6FC0-4FA1-A3A7-439CED00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FE5B-C261-431D-BF1E-DDF66537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932F-2DFA-421D-9F3C-9D4AF6B3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116F-912E-4164-AA07-57A96BA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7186-F50A-4DFD-B136-F7FABCC58A35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3694-BD3E-4069-926A-F32123CBDBFF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cbcbcb"/>
                </a:solidFill>
                <a:latin typeface="Times New Roman"/>
              </a:rPr>
              <a:t>Program zapobiegania przemocy w środowisku szkolnym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Times New Roman"/>
              </a:rPr>
              <a:t>Laurence Mousset-Lib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Times New Roman"/>
              </a:rPr>
              <a:t>ICSH</a:t>
            </a: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 – Institut de Criminologie et Sciences Humaines, Université Rennes 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imes New Roman"/>
              </a:rPr>
              <a:t>Katowice, 24.02.0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Narzędz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Tabl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krocze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posłuszeństw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gulam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uprzejmość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Grupa społeczn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Brak szacunk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sob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wg.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 Villerbu LM, Bouchard C., Moisan T., (1997), in Charlot B., 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Emin C., Violences à l’école, Etat des savoirs, A. Colin éd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M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to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y prac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myślanie scenek sytuacyjnych w małych grupk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scenek sytuacyjnych w grupa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scenki sytuacyjnej przez każdą podgrupę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rzecznika w każdej pod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stawienie dwóch wymyślonych sytuacji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skusja na forum kla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orientowanie na zapobieganie, szukanie rozwiązań, mediacj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czekiw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ązywanie problemu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czenie medi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nięcie znaczenia słowa „szacunek”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spójnej grupy klasow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zrost zaufania w osobie dorosł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iana perspektywy postrzegania rzeczywistoś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kierunkowanie na dziecko, nie tylko na uczni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, poważanie ze strony ucznió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0-200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Inventaire de Coopersmith® (ecpa éditio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program/col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ge-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e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ewczęt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hłop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iejsk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rodowisko miejsk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acunek do siebi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dziewcząt w środowisku rodzin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samoocenę chłopców w środowisku szko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mniejsza różnicę wśród chłopców pomiędzy tym jakimi „są” a jakimi „udają, że są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waluacja</a:t>
            </a:r>
            <a:r>
              <a:rPr b="0" lang="fr-FR" sz="40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odporność na stres wśród dorosłych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k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ISS® (ecpa éditio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 uczestników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rosł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świadków progra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równawcz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d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rogra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ytanie subiektywne o poziom odczuwanego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R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zultaty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 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odporność na st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bniża poziom stresu emocjonalnego powodowanego stresującą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trzymuje poziom stresu zawodowego powodowanego wykonywaną prac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zięki współpracy obniża stres powodowany sytuacją zawodową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iom odczuwanego stres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y ten program prewencji spowodował obniżenie stresu zawodowego? (62 odpowiedz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0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odczuwam stres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 potrafię odpowiedzieć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16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8 %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t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onkluzj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iniejszy program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prawia poczucie własnej wartości wśród dziewcząt i chłopc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na lepsze panowanie nad stresem powodowanym sytuacją zawodową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przyja pracy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zwala dzieciom na lepsze rozumienie własnych zachowań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spiera rozwiązywanie problemów w grup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ozwija strategie mediacyj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dtrzymuje zaangażowanie każdego uczestnika  przez cały rok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zostałe zauważone efekty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Polepszenie atmosfery w klasi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padek liczby uczniów powtarzających klas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Wzrost samodzielności wśród uczni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Lepsza współpraca instytucjonaln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</a:rPr>
              <a:t>Skuteczniejsze stosowanie wewnętrznych przepisów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rogram wspomagany przez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artementa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yrekcja zdrowia i spraw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rajowa Federacja Ubezpieczeń Wzajem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FNMF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alité française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Nadzór Akademick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utuelle Générale de l’Education Nationa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r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encja w środowisku szkolnym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Adose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olejno w lata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2000-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2-2003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Perspe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tyw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Rozwój działań na poziomie departamentalnym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szkolenia dla trenerów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gram wybrany w ramach konkursu ogłoszonego przez Ministerstwo ds. Rodziny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ropozycja zgłoszenia do programu europejskiego walki z przemocą DAPHNE I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lecenia  dot. zapobiegani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działani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definiowanie konkretn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Kwalifikacja poziomu prewencji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I, II, III –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H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tworzenie odpowiednich narzędzi ewaluacj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erzalność osiągniętych celów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Reorientacja strategii prewencyjnej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bcbcb"/>
                </a:solidFill>
                <a:latin typeface="Times New Roman"/>
              </a:rPr>
              <a:t>Zalecenia w środowisku szkolnym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zyskanie zgody władz placówk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łączenie do współpracy grona pedagogicznego</a:t>
            </a:r>
            <a:r>
              <a:rPr b="0" lang="fr-FR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weryfikowanie motywacji grona pedagogiczneg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Poinformowanie rodziców o prowadzonych działaniach prewencyj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Dostosowanie podejmowanych działań do wieku ucznió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Unikanie jednorazowych interwencj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Wspomaganie działań rozłożonych w czasi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Zastosowanie gier i zabaw interaktywnyc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wie fazy projekt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Sarth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998-1999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olleg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10-12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Szkoła podstawowa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8 –10 a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wierdzenie ewaluacji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ffcc"/>
                </a:solidFill>
                <a:latin typeface="Times New Roman"/>
              </a:rPr>
              <a:t>Ille-et-Vila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ybór pracy w college’u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(2000-2001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(2002-2003)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34290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95288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solidFill>
            <a:srgbClr val="00cc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Zawartość programu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ni szkoleniowych wśród grona pedagogicznego college’u (nauczycieli, pedagogów szkolnych, psychologa szkolnego, lekarza, pielęgniarki, pracownika socjalnego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…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5 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an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ó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dagogi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cznych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z udziałem uczniów, prowadzone przez 2 osoby dorosłe, które ukończyły szkoleni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e naukowe w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1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oraz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003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Szkoleni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1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Umiejętność słuchania i rozmowy z dzieckiem czyli jak prowadzić z szacunkiem rozmowę bez względu na powód rozmow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2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Nasze postrzeganie rzeczywistości poprzez pryzmat codziennej sytuacji zawodowej, instytucja i różne formy przemo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3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ygotowanie zajęć pedagogicznych z uczniam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4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ojrzewanie, akty przemocy, syndrom dziecka maltretowanego, przemoc na tle seksualny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zień</a:t>
            </a:r>
            <a:r>
              <a:rPr b="0" lang="fr-FR" sz="2400" spc="-1" strike="noStrike" u="sng">
                <a:solidFill>
                  <a:srgbClr val="ffffff"/>
                </a:solidFill>
                <a:uFillTx/>
                <a:latin typeface="Times New Roman"/>
              </a:rPr>
              <a:t> 5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: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Ewaluacja oraz utworzenie grup eduk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S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potkania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 p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fr-FR" sz="4400" spc="-1" strike="noStrike">
                <a:solidFill>
                  <a:srgbClr val="cbcbcb"/>
                </a:solidFill>
                <a:latin typeface="Times New Roman"/>
              </a:rPr>
              <a:t>dagogi</a:t>
            </a: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cz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1 : tabl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ica zachowań społecz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2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3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wśród dorosł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4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otkanie</a:t>
            </a: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 5 : 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zemoc na tle seksualnym dorosłych wobec dzieci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Praca interaktywna na bazie wymyślonych scenek sytuacyjny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Jasno określone reguły dotyczące przebiegu spotkań (nie kpić, słuchać innych, akceptować zdanie inny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bcbcb"/>
                </a:solidFill>
                <a:latin typeface="Times New Roman"/>
              </a:rPr>
              <a:t>Kalendarz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Przebieg programu podczas trwania roku szkolneg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4267080"/>
            <a:ext cx="6400800" cy="486000"/>
          </a:xfrm>
          <a:prstGeom prst="rightArrow">
            <a:avLst>
              <a:gd name="adj1" fmla="val 36602"/>
              <a:gd name="adj2" fmla="val 54145"/>
            </a:avLst>
          </a:prstGeom>
          <a:gradFill rotWithShape="0">
            <a:gsLst>
              <a:gs pos="0">
                <a:srgbClr val="00ffcc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05080" y="4581360"/>
            <a:ext cx="6163560" cy="337320"/>
            <a:chOff x="1405080" y="4581360"/>
            <a:chExt cx="6163560" cy="337320"/>
          </a:xfrm>
        </p:grpSpPr>
        <p:sp>
          <p:nvSpPr>
            <p:cNvPr id="114" name=""/>
            <p:cNvSpPr/>
            <p:nvPr/>
          </p:nvSpPr>
          <p:spPr>
            <a:xfrm>
              <a:off x="140508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3140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26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08808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X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59400" y="45813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0120" y="4581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828680" y="4581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2304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I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82840" y="45813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32560" y="4581360"/>
              <a:ext cx="37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139520" y="4581360"/>
              <a:ext cx="429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ffffff"/>
                  </a:solidFill>
                  <a:latin typeface="Arial"/>
                </a:rPr>
                <a:t>VI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523880" y="3048120"/>
            <a:ext cx="2438640" cy="22860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Szkoleni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3429000"/>
            <a:ext cx="2819520" cy="304920"/>
          </a:xfrm>
          <a:prstGeom prst="flowChartProcess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potkania</a:t>
            </a: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edagogicz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3962520"/>
            <a:ext cx="1219320" cy="228600"/>
          </a:xfrm>
          <a:prstGeom prst="rect">
            <a:avLst/>
          </a:prstGeom>
          <a:solidFill>
            <a:srgbClr val="ff33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pl-PL" sz="2000" spc="-1" strike="noStrike">
                <a:solidFill>
                  <a:srgbClr val="ffffff"/>
                </a:solidFill>
                <a:latin typeface="Times New Roman"/>
              </a:rPr>
              <a:t>waluacj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4:42:17Z</dcterms:created>
  <dc:creator>Clinique Criminologique et Psychopathologique</dc:creator>
  <dc:description/>
  <dc:language>en-US</dc:language>
  <cp:lastModifiedBy>Basia_S</cp:lastModifiedBy>
  <dcterms:modified xsi:type="dcterms:W3CDTF">2005-02-15T16:16:53Z</dcterms:modified>
  <cp:revision>55</cp:revision>
  <dc:subject/>
  <dc:title>Présentation générale du projet</dc:title>
</cp:coreProperties>
</file>