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CC4-03DC-41CE-B6D4-ED1AEC3B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FEC-9E3A-4B8A-B0E9-DA9D7460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B42-B47C-42D7-B392-29FD8C92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FBE-95CD-4734-B1BC-061298DA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43F-54E2-4E87-9CDF-3052115B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87D-71C3-4B81-9FB9-90717F12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12D-A9CE-4757-B721-63F636D9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A37-A3EA-42BE-AAE9-F61F99FA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512-E8D8-42E6-AA7F-C578BB5D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129-0665-44AC-BA69-E2B05282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FDF-BB1E-4812-8220-81D6D1E4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949-BDE8-4D8B-AB11-1D8B970A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042C-4FCA-48F1-8328-02EF5A86EEC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19440" y="1338120"/>
          <a:ext cx="550692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338120"/>
                    <a:ext cx="550692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00" y="1744560"/>
          <a:ext cx="849600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44560"/>
                    <a:ext cx="84960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1866960"/>
          <a:ext cx="874872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66960"/>
                    <a:ext cx="874872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996920" y="754200"/>
          <a:ext cx="5151600" cy="53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6920" y="754200"/>
                    <a:ext cx="5151600" cy="53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2520" y="1125360"/>
          <a:ext cx="823896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125360"/>
                    <a:ext cx="82389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5640" y="1916280"/>
          <a:ext cx="813744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813744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87280" y="1854360"/>
          <a:ext cx="8569440" cy="31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854360"/>
                    <a:ext cx="8569440" cy="31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8400" y="2019240"/>
          <a:ext cx="77486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019240"/>
                    <a:ext cx="77486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1587600"/>
          <a:ext cx="7991280" cy="37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87600"/>
                    <a:ext cx="799128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00" y="1882800"/>
          <a:ext cx="90090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1882800"/>
                    <a:ext cx="90090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00" y="966960"/>
          <a:ext cx="8640720" cy="48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66960"/>
                    <a:ext cx="864072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1822320"/>
          <a:ext cx="8569080" cy="31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22320"/>
                    <a:ext cx="856908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9:37:51Z</dcterms:created>
  <dc:creator>Metis</dc:creator>
  <dc:description/>
  <dc:language>en-US</dc:language>
  <cp:lastModifiedBy>Faleńczyk</cp:lastModifiedBy>
  <dcterms:modified xsi:type="dcterms:W3CDTF">2004-11-15T19:08:46Z</dcterms:modified>
  <cp:revision>17</cp:revision>
  <dc:subject/>
  <dc:title>Slajd 1</dc:title>
</cp:coreProperties>
</file>