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3BC-F11F-458F-A3B0-9B650076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832-3FDC-4490-926C-86FACA31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34D-8717-4F33-B60A-E93B4F16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D6B-852E-4F32-B0EE-AC93227B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5AEE-C099-4F34-A38E-2291F712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210E-6D87-4643-8044-A0599F9C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CB40-B7DC-400D-AAE5-15D2337A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CEE7-2379-44F8-8CDD-99919D1A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54C8-CFF4-46F9-8E3D-6483E97E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D719-3822-4AAF-98BD-3216DD8C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3FA4-3CDC-4A9E-8146-BFA45FC4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6B69-65FD-4B64-9974-9A3D4E29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7108-539D-4AB3-B215-498352E1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DCFC-4AF1-480A-B9A9-D0651798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37CE-2A18-4017-A8F7-0834E009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344C-DD23-4DE5-B6BA-62F46E06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7C64-00A4-42F8-BAC4-A2F8D907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BF5-09BA-4E63-BE65-AEC12F00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E88-F7F9-40EB-A637-EE5A30FD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477-8F31-4C2F-85B5-A9566EDE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099-38AB-41FF-86AF-A88BEE41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D25-5196-4FEA-A732-53183892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3A0-445D-4FD0-B9F4-EE6A9891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5B3-EB22-4440-A94B-E3E63036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0152-4BBC-4E71-971D-59124A46B3B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49AC-68A3-41E4-9E6E-7DE159A6B62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90512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OJEKT DZI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ZAKRESU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EORIENTACJI ZAWODOWEJ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DLA UCZNIÓW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NIEP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OSPRAWN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C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TELEKTUALN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pedagogiczne: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1337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bezpiecz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two pra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ozwijanie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zainteresow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(prac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anualne,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plastycz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towanie estetyki wykonywanych prac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otywowanie do samodzie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konsekwencji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ytrw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do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d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twórczych posta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operacyjn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8288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projektem dotyczącym wyboru przyszłego zawod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zasad funkcjonowania pracowni introligatorskiej na Warsztatach Terapii Zajęciowej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y drukarz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konserwacja i oprawianie zniszczonych książ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odukcja opakowa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odukcja notesów i zeszytó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erwsz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tworzenie grup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się z poziomem i możliwościami uczni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głównymi celami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eprowadzenie w szkole warsztatów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zygotowanie do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drug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36720"/>
            <a:ext cx="8001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owni introligatorskiej, zasad jej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funkcjonowani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integracja z uczestnikami warsztat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z maszynami znajdującymi się w pracown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interesowanie uczniów pracami introligatorskim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powstaje książka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 zeszytów ze skład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kładki na książkę: przycinanie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, n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ładanie czcionki, zdobnictw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nserwacja i naprawa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cia w pracowni introligatorskiej –  I etap projektu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trzec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oprowadzenie uczniów po zakładz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zadaniami pracownik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poznanie z funkcjonowaniem i przeznaczeniem maszy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owadzone w drukarni Oldprint w 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ra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czwar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zrobić torebkę na prezen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pakowań na prezen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zdabianie torebek w stylu zgodnym  z ich przeznaczeniem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y pełnym wykorzystaniu własnej inwencji twórczej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144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ezent w efektownym opakowani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zeprowadzane  w Zespole Szk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 n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 8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zleconych prac introligatorski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notesów i zeszytów przy u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yciu gilotyny,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bindowni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prawianie i naprawa ksi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 ze szkolnej biblioteki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zkoln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 Introligatorski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51:13Z</dcterms:created>
  <dc:creator>katyja</dc:creator>
  <dc:description/>
  <dc:language>en-US</dc:language>
  <cp:lastModifiedBy>g8</cp:lastModifiedBy>
  <dcterms:modified xsi:type="dcterms:W3CDTF">2004-11-19T09:29:40Z</dcterms:modified>
  <cp:revision>9</cp:revision>
  <dc:subject/>
  <dc:title>Prezentacja programu PowerPoint</dc:title>
</cp:coreProperties>
</file>