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4B6-E40A-4A18-BF05-D13C38E4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E9E-9B5B-47F4-BCB5-A66320E1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147-A4F5-45E2-AA3F-4ACADCA0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490-915B-4D28-89E0-4CE9F52A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912F-80B5-4302-B263-18DC1A47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0BD3-AFBA-4D92-A03F-F9139948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CC84-D5DF-4023-8A14-D37291D4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52E5-6B29-4350-A994-F3593F33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4D19-7288-42EA-AF96-6F6AF2DB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8DFB-8A3C-4D5A-8331-EA7AAA7D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36B0-808C-4B2D-9B67-8ADF3371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37B-F1BA-432A-81B7-1E072B72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B09E-2EF9-44A5-823D-D9A927F8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2CB9-EE7E-4717-BE02-BE608C22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2488-DC33-4DC5-916D-E9F2B72E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68E0-97CC-475B-8FA9-AD9A8BE4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B809-DF9B-460A-8F44-D4B39801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5C8-0B86-416F-8C2C-557F10BA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8B4-4C73-4EFF-B735-50065F6C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36A-F713-4AEC-B9D9-DC3CE1EB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400-4A04-4010-9EB5-EF7E69CD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B31-F9D2-40B6-9732-CD13BD0D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D9C-3430-4A8E-8B15-015A3516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99F-2C91-4CD6-B5A8-21D49569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A0EE-A4D8-4047-AF1B-D88BECA25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F929-A68E-4346-890A-D7B8CC182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PROJEKT DZI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Ń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Z  ZAKRESU PREORIENTACJI ZAWODOW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KLASY INTEGRACYJN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CZNIK 2003 – 2006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)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221304"/>
                </a:solidFill>
                <a:latin typeface="Tahoma"/>
              </a:rPr>
              <a:t>opracował: mgr Łukasz Cieśl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685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523880"/>
            <a:ext cx="6858000" cy="459720"/>
            <a:chOff x="1219320" y="1523880"/>
            <a:chExt cx="6858000" cy="459720"/>
          </a:xfrm>
        </p:grpSpPr>
        <p:sp>
          <p:nvSpPr>
            <p:cNvPr id="120" name=""/>
            <p:cNvSpPr/>
            <p:nvPr/>
          </p:nvSpPr>
          <p:spPr>
            <a:xfrm>
              <a:off x="1600200" y="15238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st zd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iedok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zo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6765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4952880"/>
            <a:ext cx="6324480" cy="825480"/>
            <a:chOff x="1219320" y="4952880"/>
            <a:chExt cx="6324480" cy="825480"/>
          </a:xfrm>
        </p:grpSpPr>
        <p:sp>
          <p:nvSpPr>
            <p:cNvPr id="123" name=""/>
            <p:cNvSpPr/>
            <p:nvPr/>
          </p:nvSpPr>
          <p:spPr>
            <a:xfrm>
              <a:off x="1752480" y="49528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343400"/>
            <a:ext cx="6324480" cy="459720"/>
            <a:chOff x="1219320" y="4343400"/>
            <a:chExt cx="6324480" cy="459720"/>
          </a:xfrm>
        </p:grpSpPr>
        <p:sp>
          <p:nvSpPr>
            <p:cNvPr id="126" name=""/>
            <p:cNvSpPr/>
            <p:nvPr/>
          </p:nvSpPr>
          <p:spPr>
            <a:xfrm>
              <a:off x="1676520" y="4343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cieczki krajoznawczo -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rystycz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4956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3581280"/>
            <a:ext cx="6933960" cy="825480"/>
            <a:chOff x="1219320" y="3581280"/>
            <a:chExt cx="6933960" cy="825480"/>
          </a:xfrm>
        </p:grpSpPr>
        <p:sp>
          <p:nvSpPr>
            <p:cNvPr id="129" name=""/>
            <p:cNvSpPr/>
            <p:nvPr/>
          </p:nvSpPr>
          <p:spPr>
            <a:xfrm>
              <a:off x="1676520" y="3581280"/>
              <a:ext cx="64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dukacja prozdrowotna -  analiza stanu zdrow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733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19320" y="2209680"/>
            <a:ext cx="6553080" cy="1557000"/>
            <a:chOff x="1219320" y="2209680"/>
            <a:chExt cx="6553080" cy="1557000"/>
          </a:xfrm>
        </p:grpSpPr>
        <p:sp>
          <p:nvSpPr>
            <p:cNvPr id="132" name=""/>
            <p:cNvSpPr/>
            <p:nvPr/>
          </p:nvSpPr>
          <p:spPr>
            <a:xfrm>
              <a:off x="1600200" y="22096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dzielanie informacji na temat dzi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jący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szkole 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zainteresow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z odbyw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ych się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zalekcyj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2362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35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znajemy zaw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19320"/>
            <a:ext cx="228600" cy="228600"/>
          </a:xfrm>
          <a:prstGeom prst="ellipse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752480"/>
            <a:ext cx="8001000" cy="2000520"/>
            <a:chOff x="1143000" y="1752480"/>
            <a:chExt cx="8001000" cy="2000520"/>
          </a:xfrm>
        </p:grpSpPr>
        <p:sp>
          <p:nvSpPr>
            <p:cNvPr id="137" name=""/>
            <p:cNvSpPr/>
            <p:nvPr/>
          </p:nvSpPr>
          <p:spPr>
            <a:xfrm>
              <a:off x="1523880" y="1752480"/>
              <a:ext cx="762012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sp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„Dni Otwartych Gimnazjum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514600"/>
            <a:ext cx="8534520" cy="1295280"/>
            <a:chOff x="1143000" y="2514600"/>
            <a:chExt cx="8534520" cy="1295280"/>
          </a:xfrm>
        </p:grpSpPr>
        <p:sp>
          <p:nvSpPr>
            <p:cNvPr id="140" name=""/>
            <p:cNvSpPr/>
            <p:nvPr/>
          </p:nvSpPr>
          <p:spPr>
            <a:xfrm>
              <a:off x="1600200" y="2514600"/>
              <a:ext cx="8077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arsztaty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cne i  słabe stro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wiązywanie konfliktów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miejętne gospodarowanie czasem wolny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ęzyk, gesty i słowa – jak się porozumiewam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filaktyka uzależnień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Jak b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kreatywnym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44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westionariusz „Po nitce do kłębk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43000" y="1981080"/>
            <a:ext cx="6705720" cy="1191240"/>
            <a:chOff x="1143000" y="1981080"/>
            <a:chExt cx="6705720" cy="119124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198108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dani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astawieni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ucznió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  konieczności podjęcia decyzji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 wyborze drogi życiow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43000" y="3505320"/>
            <a:ext cx="7315200" cy="825480"/>
            <a:chOff x="1143000" y="3505320"/>
            <a:chExt cx="7315200" cy="825480"/>
          </a:xfrm>
        </p:grpSpPr>
        <p:sp>
          <p:nvSpPr>
            <p:cNvPr id="150" name=""/>
            <p:cNvSpPr/>
            <p:nvPr/>
          </p:nvSpPr>
          <p:spPr>
            <a:xfrm>
              <a:off x="1600200" y="35053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wyjścia do zakładów pracy, przedsiębiorstw, fi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36576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43000" y="4419720"/>
            <a:ext cx="7315200" cy="825480"/>
            <a:chOff x="1143000" y="4419720"/>
            <a:chExt cx="7315200" cy="825480"/>
          </a:xfrm>
        </p:grpSpPr>
        <p:sp>
          <p:nvSpPr>
            <p:cNvPr id="153" name=""/>
            <p:cNvSpPr/>
            <p:nvPr/>
          </p:nvSpPr>
          <p:spPr>
            <a:xfrm>
              <a:off x="1600200" y="44197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zapraszanie ludzi posiadających ciekawe zawo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43000" y="5638680"/>
            <a:ext cx="7010280" cy="825480"/>
            <a:chOff x="1143000" y="5638680"/>
            <a:chExt cx="7010280" cy="825480"/>
          </a:xfrm>
        </p:grpSpPr>
        <p:sp>
          <p:nvSpPr>
            <p:cNvPr id="156" name=""/>
            <p:cNvSpPr/>
            <p:nvPr/>
          </p:nvSpPr>
          <p:spPr>
            <a:xfrm>
              <a:off x="1600200" y="56386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na Warsztaty Terapii Zaję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791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59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k Poradnictwa Zawodowego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981080"/>
            <a:ext cx="6705720" cy="825480"/>
            <a:chOff x="1143000" y="1981080"/>
            <a:chExt cx="6705720" cy="825480"/>
          </a:xfrm>
        </p:grpSpPr>
        <p:sp>
          <p:nvSpPr>
            <p:cNvPr id="162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198108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mocja szkół ponadgimnazjalnych, zawodów na tablicy informacyjn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124080"/>
            <a:ext cx="7086600" cy="2931480"/>
            <a:chOff x="1143000" y="3124080"/>
            <a:chExt cx="7086600" cy="2931480"/>
          </a:xfrm>
        </p:grpSpPr>
        <p:sp>
          <p:nvSpPr>
            <p:cNvPr id="165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124080"/>
              <a:ext cx="6629400" cy="29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omunikacja interpersonalna „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ertywność – sztuka bycia sobą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autoprezentacji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być dobrym pracowniki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ze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1295280"/>
            <a:ext cx="6934320" cy="825480"/>
            <a:chOff x="1143000" y="1295280"/>
            <a:chExt cx="6934320" cy="825480"/>
          </a:xfrm>
        </p:grpSpPr>
        <p:sp>
          <p:nvSpPr>
            <p:cNvPr id="169" name=""/>
            <p:cNvSpPr/>
            <p:nvPr/>
          </p:nvSpPr>
          <p:spPr>
            <a:xfrm>
              <a:off x="1143000" y="1447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295280"/>
              <a:ext cx="65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2286000"/>
            <a:ext cx="6705720" cy="825480"/>
            <a:chOff x="1143000" y="2286000"/>
            <a:chExt cx="6705720" cy="825480"/>
          </a:xfrm>
        </p:grpSpPr>
        <p:sp>
          <p:nvSpPr>
            <p:cNvPr id="172" name=""/>
            <p:cNvSpPr/>
            <p:nvPr/>
          </p:nvSpPr>
          <p:spPr>
            <a:xfrm>
              <a:off x="1143000" y="24382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28600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-  wiedza uczniów o szkolnictwie ponadgimnazjalny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4419720"/>
            <a:ext cx="7238880" cy="459720"/>
            <a:chOff x="1219320" y="4419720"/>
            <a:chExt cx="7238880" cy="459720"/>
          </a:xfrm>
        </p:grpSpPr>
        <p:sp>
          <p:nvSpPr>
            <p:cNvPr id="175" name=""/>
            <p:cNvSpPr/>
            <p:nvPr/>
          </p:nvSpPr>
          <p:spPr>
            <a:xfrm>
              <a:off x="1600200" y="44197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do Urzędu Pracy 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5257800"/>
            <a:ext cx="7162560" cy="825480"/>
            <a:chOff x="1219320" y="5257800"/>
            <a:chExt cx="7162560" cy="825480"/>
          </a:xfrm>
        </p:grpSpPr>
        <p:sp>
          <p:nvSpPr>
            <p:cNvPr id="178" name=""/>
            <p:cNvSpPr/>
            <p:nvPr/>
          </p:nvSpPr>
          <p:spPr>
            <a:xfrm>
              <a:off x="1523880" y="525780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a „Dni otwarte sz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nadgimnazjal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5410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3352680"/>
            <a:ext cx="6095880" cy="825480"/>
            <a:chOff x="1219320" y="3352680"/>
            <a:chExt cx="6095880" cy="825480"/>
          </a:xfrm>
        </p:grpSpPr>
        <p:sp>
          <p:nvSpPr>
            <p:cNvPr id="181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3526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- wybór konkretnej szkoły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raz profi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2895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762120"/>
            <a:ext cx="6933960" cy="5176440"/>
            <a:chOff x="1219320" y="762120"/>
            <a:chExt cx="6933960" cy="5176440"/>
          </a:xfrm>
        </p:grpSpPr>
        <p:sp>
          <p:nvSpPr>
            <p:cNvPr id="185" name=""/>
            <p:cNvSpPr/>
            <p:nvPr/>
          </p:nvSpPr>
          <p:spPr>
            <a:xfrm>
              <a:off x="1219320" y="9144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762120"/>
              <a:ext cx="66294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radzenia sobie ze stres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ezpieczeństwo i higiena pracy 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ie bój się pierwszej pracy. Przygotowanie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mow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 pracodawcą“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ystem szkolnictwa ponadgimnazjalneg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rynek – duża szansa.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Ćwiczenia przedsiębiorczości”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dobrze napisać podanie, list motywacyjny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 CV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zara” Polska – działanie rynku pracy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G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ÓWNY CEL PROGRAMU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zygotowanie uczniów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adomego wyboru szk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y oraz przys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o zawodu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 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ZAWÓ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TRZECI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DECYZ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PIERWSZY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1600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zdolności                       i umiejętności uczniów, mocnych                   oraz słabych s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ywacja do rozwijania zainteresowań            i umiejęt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6705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cja zdrowego stylu życia.                Analiza stanu zdrow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447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świadamianie związku między osobowością (charakterem) a wyborem za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7672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poszerzania wiedzy szkolnej i o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nia lepszych wynikó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 n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DRUGI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różnymi zawod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wodów poszukiwanych  na rynku polskim oraz 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267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poziomu atrakcyjności różnych zawodów                       i specjal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owanie o wymaganiach psychofizycznych koniecznych do podjęcia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27672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ybliżanie pojęć związanych z pracą zawodową (środowisko pracy, narzędzia pracy, zadania i czynności itp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8769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owanie uczniów do myślenia               o przyszłości i planowania swojej karie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wodowej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zwój umie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i komunikacji, autoprezentacji oraz zachowań asertywnych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TRZECI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nie uczniów z czynnikami warunkującymi trafną decyzję  wyboru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nabyciu umiejętności radzenia sobie ze stresem                       oraz postępowania  w sytuacjach trud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64832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systemem szkolnictwa ponadgimnazjalnego                  (typy szkół oraz prof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sad rekrutacji, wymagań egzamin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owanie w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a „Dni Otwar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uzyskiwania oraz podnoszenia kwalifikacji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4:04Z</dcterms:created>
  <dc:creator>katyja</dc:creator>
  <dc:description/>
  <dc:language>en-US</dc:language>
  <cp:lastModifiedBy>Alicja</cp:lastModifiedBy>
  <dcterms:modified xsi:type="dcterms:W3CDTF">2004-11-18T08:18:34Z</dcterms:modified>
  <cp:revision>22</cp:revision>
  <dc:subject/>
  <dc:title>PROJEKT DZIAŁAŃ Z  ZAKRESU PREORIENTACJI ZAWODOWEJ KLASY INTEGRACYJNEJ (ROCZNIK 2003 – 2006) </dc:title>
</cp:coreProperties>
</file>