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2F1-EC9B-4A14-9C64-B1348B6F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AD5-4C60-4DF3-9868-F05CB117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D8D-D881-4053-8950-9B69E304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DBC-DD47-4EE3-AB1C-78668361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0CFF-BB83-4AD6-8AE5-61DD595A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698E-B8C3-4677-93CB-7596D9E5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BA57-22DA-437E-857A-9434A6EB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B3D6-EB4F-4168-94AE-1898878A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9C2F-1C1A-4BB6-9EE9-11ECBD52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E963-6F78-4404-AE0E-2D6EA532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280F-F3FB-4BAB-ABFC-747F30C4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CCA-054B-4AA1-B062-99859620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E30D-735F-4DFF-A8ED-3F676C2A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6F8E-9FF9-408A-A0E5-3760EDCB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C410-455E-4864-B8E9-670DDEF6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DAB9-F366-4CAF-92C3-63814161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3663-53CE-4A14-92BB-F21A1BD9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3A9-F849-4372-A0DA-EA9FA371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74F-2CB0-4DEA-BCEB-82F92421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AE3-1FB3-42A8-A2E3-72B7C68F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587-7D13-4B74-8A4A-450EF85A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0022-3560-4EA7-B780-467DAC32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845-6DA2-4DA6-8E5B-CD2FAA0D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E58-9A4E-4396-9785-5A49B431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7FD7-5EFE-489C-BC3A-B9DAF08B7FA0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25F0-2F9E-480F-84D8-E6B3D1CCEB36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1219320"/>
            <a:ext cx="662940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„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GRÓDEK SKALNY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projekt działań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pracowała: mgr Iwona Hendrysiak</a:t>
            </a:r>
            <a:r>
              <a:rPr b="0" lang="pl-P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órz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Dbajcie o nie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334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ziwia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867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u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8" name="iw4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437832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wychowawcze:</a:t>
            </a:r>
            <a:r>
              <a:rPr b="0" lang="en-US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05120"/>
            <a:ext cx="6400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U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wienie ucznia na p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no przyrod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zenia nauki, pracy, zabawy i wypoczynk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organizowania czasu wolnego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szczegó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e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80773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zyro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Ro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j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yob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ź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wor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 c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ieka z natur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prac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nia do o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ania celów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dpowiedzial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edyspozycje zawodowe uczniów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e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 i 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eni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ojektami, r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ami, sk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          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 innymi szk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(partnerami projektu Comenius)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828800"/>
            <a:ext cx="8077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e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konkursu fotograficznego” Skalniak i cztery pory roku”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kup nowych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osn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tygodni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at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ograniczona il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ść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potka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, dy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ry.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iw5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iw3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978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523880"/>
            <a:ext cx="85345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orzenie grupy opiekuj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j s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grodem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rabienie l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bezpieczenie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przed zim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cieczka na Klimczok w celu obserwacji Ogrodu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Skalnych 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órskich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</a:rPr>
              <a:t>Jesień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potkania raz w tygodni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828800"/>
            <a:ext cx="8534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ana d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adcze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wyników Konkursu Fotograficznego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bieranie wiadom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na temat wymag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lasyfik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1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010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m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miesi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iw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452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7:28:15Z</dcterms:created>
  <dc:creator>katyja</dc:creator>
  <dc:description/>
  <dc:language>en-US</dc:language>
  <cp:lastModifiedBy>katyja</cp:lastModifiedBy>
  <dcterms:modified xsi:type="dcterms:W3CDTF">2004-11-17T15:59:33Z</dcterms:modified>
  <cp:revision>7</cp:revision>
  <dc:subject/>
  <dc:title>Prezentacja programu PowerPoint</dc:title>
</cp:coreProperties>
</file>