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78EE-954E-410F-A5F9-400D4CA0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8F9-4B60-4AEE-A120-DDCA304F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24B-6401-4715-A401-2DB40B00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FE3-3BD9-47BC-B67C-ABAFD289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BC79-9BBB-40ED-95CF-4AC7525A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E510-B6DE-42DA-931B-678A5E80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915E-473E-43AF-8185-9E3D5B7D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D5D2-BDE4-465C-9304-3245EC6F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738D-753D-4146-B467-7218158A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EC68-AD39-4B7E-8C6E-256660F2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5F45-F53B-4354-A0A7-5CE7492B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1F42-7AE6-44DB-9719-68B43E25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C2EB-FA78-4DC9-99A8-44788EF0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4261-B709-4519-BDBB-2582B498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0EC3-9E40-4EE8-B8DC-4F245D8C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B3CF-5F0F-4930-8C24-6B589870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27F2-85BB-42E7-936E-176C15A2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F571-75AC-425E-A87B-0F5BB0BF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7E01-D788-4A41-90DE-40ACACB1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BB2C-D6C2-4688-9180-0684F7BD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0938-8847-44B0-B43E-74B05869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9964-3643-4E13-90D9-831090E9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5B92-640E-430C-B72A-A7206B59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946-8CA2-4257-BCF3-D538B2FF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058F-98F3-45EF-98EB-550A3012DB5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87DA-9A9A-4AA3-96A7-307F41C5C39A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Times New Roman"/>
              </a:rPr>
              <a:t>Program zapobiegania przemocy w środowisku szkolny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Laurence Mousset-Lib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ICSH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– Institut de Criminologie et Sciences Humaines, Université Rennes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Katowice, 24.02.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Narzędz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abl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krocze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posłuszeńst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gula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uprzejmość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rupa społecz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rak szacunk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so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g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Villerbu LM, Bouchard C., Moisan T., (1997), in Charlot B.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min C., Violences à l’école, Etat des savoirs, A. Colin é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M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o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y prac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myślanie scenek sytuacyjnych w małych grupk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scenek sytuacyjnych w grup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scenki sytuacyjnej przez każdą podgrup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pod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stawienie dwóch wymyślonych sytuacji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skusja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orientowanie na zapobieganie, szukanie rozwiązań, mediac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czekiw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ązywanie problemu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czenie medi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nięcie znaczenia słowa „szacunek”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spójnej grupy klasow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zrost zaufania w osobie dorosł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iana perspektywy postrzegania rzeczywistoś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kierunkowanie na dziecko, nie tylko na uczn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, poważanie ze strony ucznió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0-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ventaire de Coopersmith® (ecpa édi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program/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ewczęt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hłop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iejsk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 miejsk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 do sieb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dziewcząt w środowisku rodzin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chłopców w środowisku szko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niejsza różnicę wśród chłopców pomiędzy tym jakimi „są” a jakimi „udają, że są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odporność na stres wśród dorosłych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ISS® (ecpa éditio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 uczestników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ków progra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ytanie subiektywne o poziom odczuwanego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dporność na st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bniża poziom stresu emocjonalnego powodowanego stresującą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trzymuje poziom stresu zawodowego powodowanego wykonywaną prac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ęki współpracy obniża stres powodowany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iom odczuwanego stres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y ten program prewencji spowodował obniżenie stresu zawodowego? (62 odpowiedz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odczuwam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potrafię odpowiedzie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8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nkluz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poczucie własnej wartości wśród dziewcząt i chłopc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na lepsze panowanie nad stresem powodowanym sytuacją zawodową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rzyja pracy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dzieciom na lepsze rozumienie własnych zachowa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spiera rozwiązywanie problemów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ja strategie mediacyj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dtrzymuje zaangażowanie każdego uczestnika  przez cały ro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ostałe zauważone efekty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lepszenie atmosfery w klas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adek liczby uczniów powtarzających klas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zrost samodzielności wśród uczni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Lepsza współpraca instytucjonal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kuteczniejsze stosowanie wewnętrznych przepis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rogram wspomagany przez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rekcja zdrowia i spraw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rajowa Federacja Ubezpieczeń Wzajem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FNM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alité française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zór Akademick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elle Générale de l’Education Nation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encja w środowisku szkolny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Ados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olejno w lata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2000-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ersp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tyw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ozwój działań na poziomie departamentalnym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zkolenia dla trenerów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gram wybrany w ramach konkursu ogłoszonego przez Ministerstwo ds. Rodzin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pozycja zgłoszenia do programu europejskiego walki z przemocą DAPHNE I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lecenia  dot. zapobieg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działani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efiniowanie konkretn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walifikacja poziomu prewencj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I, II, III –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odpowiednich narzędzi ewalu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rzalność osiągnięt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orientacja strategii prewencyjn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lecenia w środowisku szkolny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zyskanie zgody władz placów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łączenie do współpracy grona pedagogicznego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weryfikowanie motywacji grona pedagogiczne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informowanie rodziców o prowadzonych działaniach prewencyj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ostosowanie podejmowanych działań do wieku ucznió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nikanie jednorazowych interwen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spomaganie działań rozłożonych w czas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stosowanie gier i zabaw interaktyw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ie fazy proje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Sarth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998-199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olleg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0-12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ła podstawow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8 –10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wierdzenie ewaluacji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pracy w college’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2000-2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2002-2003)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4290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9528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wartość program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ni szkoleniowych wśród grona pedagogicznego college’u (nauczycieli, pedagogów szkolnych, psychologa szkolnego, lekarza, pielęgniarki, pracownika socjalneg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ó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agog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z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 udziałem uczniów, prowadzone przez 2 osoby dorosłe, które ukończyły szkole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e naukowe 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koleni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miejętność słuchania i rozmowy z dzieckiem czyli jak prowadzić z szacunkiem rozmowę bez względu na powód rozmow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2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Nasze postrzeganie rzeczywistości poprzez pryzmat codziennej sytuacji zawodowej, instytucja i różne formy przemo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zajęć pedagogicznych z ucznia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4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jrzewanie, akty przemocy, syndrom dziecka maltretowanego, przemoc na tle seksua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a oraz utworzenie grup eduk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S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tkani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p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agogi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cz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1 : tab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4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5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na tle seksualnym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ca interaktywna na bazie wymyślonych scenek sytu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Jasno określone reguły dotyczące przebiegu spotkań (nie kpić, słuchać innych, akceptować zdanie inny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alendarz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ebieg programu podczas trwania roku szkoln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267080"/>
            <a:ext cx="6400800" cy="486000"/>
          </a:xfrm>
          <a:prstGeom prst="rightArrow">
            <a:avLst>
              <a:gd name="adj1" fmla="val 36602"/>
              <a:gd name="adj2" fmla="val 54145"/>
            </a:avLst>
          </a:prstGeom>
          <a:gradFill rotWithShape="0">
            <a:gsLst>
              <a:gs pos="0">
                <a:srgbClr val="00ffcc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05080" y="4581360"/>
            <a:ext cx="6163560" cy="337320"/>
            <a:chOff x="1405080" y="4581360"/>
            <a:chExt cx="6163560" cy="337320"/>
          </a:xfrm>
        </p:grpSpPr>
        <p:sp>
          <p:nvSpPr>
            <p:cNvPr id="114" name=""/>
            <p:cNvSpPr/>
            <p:nvPr/>
          </p:nvSpPr>
          <p:spPr>
            <a:xfrm>
              <a:off x="140508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140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26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808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9400" y="45813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0120" y="4581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28680" y="4581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30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284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3256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952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23880" y="3048120"/>
            <a:ext cx="2438640" cy="22860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zkolen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429000"/>
            <a:ext cx="2819520" cy="30492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tkania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dagogicz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962520"/>
            <a:ext cx="1219320" cy="2286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aluac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4:42:17Z</dcterms:created>
  <dc:creator>Clinique Criminologique et Psychopathologique</dc:creator>
  <dc:description/>
  <dc:language>en-US</dc:language>
  <cp:lastModifiedBy>Basia_S</cp:lastModifiedBy>
  <dcterms:modified xsi:type="dcterms:W3CDTF">2005-02-15T16:16:53Z</dcterms:modified>
  <cp:revision>55</cp:revision>
  <dc:subject/>
  <dc:title>Présentation générale du projet</dc:title>
</cp:coreProperties>
</file>