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0F69-3A95-4EEC-AC69-933BA3DE0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84C1-2C33-4E92-878E-EBFE9AFE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1E8F-82F6-4D94-A2C8-D8E22A5FB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783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426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783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426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F8E4-B9F4-4C2C-894D-39A5084E0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6EB8-1253-4893-87E3-5A74FA91A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860E-F46C-42D1-B8DD-C71EC8A9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EE4B-E99A-4D96-80C1-3C1D3B93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A4A6-1EEE-41E1-9263-FB2B206E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2D10-2217-4F15-B360-1356B018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DCB4-382D-4927-9178-BA8C6173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8822B-0EC4-4848-A314-9456B226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94CE-2B97-4D8D-977A-0D25C90F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DF21-B965-4B6E-8D6B-F7368B4B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AE56-5D7B-4C43-B9A5-6DB4BC85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422B-FA76-4923-A0B3-FE7776D0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E39F-C478-410F-BB1F-7327F9829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783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426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783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426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3952-6E37-4745-8A02-1C6DBA457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698F-E299-407C-97F7-63DE0264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F557-D0DC-4218-A18D-5DAC1B64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2F7F-9516-4C92-93D2-CE22DBE5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9F4A-1FB3-4FB7-9075-E690B0B2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275E-5FE1-4601-8D0D-AE9026CA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36C3-A489-4A0D-8EFA-D0712C6A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946D-98AA-4DD0-9702-1A6158F1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705F-1C32-4458-8882-1B6F7F616F1B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CCF0-D4AD-45B7-984E-DC7DCD54538F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600200" y="1219320"/>
            <a:ext cx="6629400" cy="35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„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OGRÓDEK SKALNY”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-projekt działań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1676520" y="58672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pracowała: mgr Iwona Hendrysiak</a:t>
            </a:r>
            <a:r>
              <a:rPr b="0" lang="pl-PL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3880" y="914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Stwórzcie go!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00400" y="14479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Dbajcie o niego!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533412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ziwiajcie go!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5867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ujcie go!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8" name="iw4" descr=""/>
          <p:cNvPicPr/>
          <p:nvPr/>
        </p:nvPicPr>
        <p:blipFill>
          <a:blip r:embed="rId2"/>
          <a:stretch/>
        </p:blipFill>
        <p:spPr>
          <a:xfrm>
            <a:off x="1905120" y="2133720"/>
            <a:ext cx="4378320" cy="3109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3880" y="9144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ele wychowawcze:</a:t>
            </a:r>
            <a:r>
              <a:rPr b="0" lang="en-US" sz="4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1905120"/>
            <a:ext cx="6400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U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r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ż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wienie ucznia na p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kno przyrody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N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abycie umiej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tn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ą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zenia nauki, pracy, zabawy i wypoczynku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N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abycie umiej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tn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 organizowania czasu wolnego.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30492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ele szczegó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we: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1143000"/>
            <a:ext cx="807732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c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jak obserwow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przyrod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Roz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ij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wyobr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ź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n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Twor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w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i cz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wieka z natur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c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jak pracow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c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d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ąż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enia do o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ania celów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c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odpowiedzialn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.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ow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predyspozycje zawodowe uczniów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niepe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nosprawnych i pe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nosprawnych.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ymieni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projektami, r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ami, sk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ami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          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 innymi szk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ami (partnerami projektu Comenius).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19320" y="30492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Realizacja projektu.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1828800"/>
            <a:ext cx="80773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iel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nacja ro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.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lewanie.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ielenie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cinanie krzewów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okalizacja nowych ska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ek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acja przyrody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g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szenie konkursu fotograficznego” Skalniak i cztery pory roku”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akup nowych ro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29528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iosna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: spotkania raz w tygodniu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19320" y="30492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Realizacja projektu.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2193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ato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: ograniczona ilo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</a:rPr>
              <a:t>ść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potka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</a:rPr>
              <a:t>ń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, dy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</a:rPr>
              <a:t>ż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ry.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98" name="iw5" descr=""/>
          <p:cNvPicPr/>
          <p:nvPr/>
        </p:nvPicPr>
        <p:blipFill>
          <a:blip r:embed="rId2"/>
          <a:stretch/>
        </p:blipFill>
        <p:spPr>
          <a:xfrm>
            <a:off x="304920" y="1905120"/>
            <a:ext cx="3962160" cy="2685960"/>
          </a:xfrm>
          <a:prstGeom prst="rect">
            <a:avLst/>
          </a:prstGeom>
          <a:ln w="0">
            <a:noFill/>
          </a:ln>
        </p:spPr>
      </p:pic>
      <p:pic>
        <p:nvPicPr>
          <p:cNvPr id="99" name="iw3" descr=""/>
          <p:cNvPicPr/>
          <p:nvPr/>
        </p:nvPicPr>
        <p:blipFill>
          <a:blip r:embed="rId3"/>
          <a:stretch/>
        </p:blipFill>
        <p:spPr>
          <a:xfrm>
            <a:off x="4343400" y="3809880"/>
            <a:ext cx="3978360" cy="2727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30492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Realizacja projektu.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523880"/>
            <a:ext cx="853452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Stworzenie grupy opiekuj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ej si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ogrodem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iel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nacja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lewanie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rabienie li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cinanie krzewów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okalizacja nowych ska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ek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acja przyrody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abezpieczenie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 przed zim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ycieczka na Klimczok w celu obserwacji Ogrodu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 Skalnych i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órskich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29528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634"/>
                </a:solidFill>
                <a:latin typeface="Comic Sans MS"/>
              </a:rPr>
              <a:t>Jesień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spotkania raz w tygodniu.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19320" y="30492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Realizacja projektu.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828800"/>
            <a:ext cx="85345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ymiana d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iadcze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ń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g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szenie wyników Konkursu Fotograficznego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bieranie wiadom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 na temat wymaga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ń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acja przyrody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Klasyfikacja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.</a:t>
            </a:r>
            <a:r>
              <a:rPr b="1" lang="en-US" sz="18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295280"/>
            <a:ext cx="701064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ima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: spotkania raz w miesi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u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06" name="iw2" descr=""/>
          <p:cNvPicPr/>
          <p:nvPr/>
        </p:nvPicPr>
        <p:blipFill>
          <a:blip r:embed="rId2"/>
          <a:stretch/>
        </p:blipFill>
        <p:spPr>
          <a:xfrm>
            <a:off x="3276720" y="3505320"/>
            <a:ext cx="445284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7:28:15Z</dcterms:created>
  <dc:creator>katyja</dc:creator>
  <dc:description/>
  <dc:language>en-US</dc:language>
  <cp:lastModifiedBy>katyja</cp:lastModifiedBy>
  <dcterms:modified xsi:type="dcterms:W3CDTF">2004-11-17T15:59:33Z</dcterms:modified>
  <cp:revision>7</cp:revision>
  <dc:subject/>
  <dc:title>Prezentacja programu PowerPoint</dc:title>
</cp:coreProperties>
</file>