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B757-5EE9-4E06-93F5-3D1574E11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C20E-D996-4216-B1C8-A483E8F7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7AE4-3C1C-412D-853E-997A66CB1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C0AA-0DEA-4F59-AA8C-0F5A1C67A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3A17-3241-4CC5-A7DC-A9B87CE10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22A5-2C9C-448C-A080-695BD930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F578-A450-4A75-B06F-E485C392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0F21-F7A6-4F25-90AF-E568E9B5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9017-8630-419F-A978-E531F3D4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21EA-93CB-4FB1-B6F7-CD2C6459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7533-4FF3-4CE8-AFE9-7508ACCE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BB4C-ED19-4297-802A-EC7529EF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BF5A-DB4E-4601-A272-A73FF85A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8CBA-A86D-4E5D-B575-EA33F8A0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D652-E41C-4F80-8A33-B238340B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C008-3958-4A96-B894-0F1225812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5EFF-B5A9-4C7F-912B-116523750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F936-0160-4C33-8994-AB30D2E0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F770-C45E-4C66-B6BD-08388901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CA33-4502-4B47-9AD1-7D533676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1ACE-47EE-433A-950A-98FFEC0E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E8E1-9312-4B3A-AB28-4BDFD7FC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039F-D6C4-49F1-8CF0-D9318499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9873-4DFF-4807-9578-51FF8923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A35C-6278-4CC0-8267-E569C7E3A499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90C6-E9BF-4446-A389-7BEE1CACF106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4920" y="1905120"/>
            <a:ext cx="86104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PROJEKT DZIA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Ń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Z ZAKRESU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PREORIENTACJI ZAWODOWEJ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                  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DLA UCZNIÓW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Z NIEPE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NOSPRAWNO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CI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Ą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NTELEKTUALN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Ą</a:t>
            </a: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09480" y="5335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Cele pedagogiczne: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2133720"/>
            <a:ext cx="75438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wdr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ż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anie do db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o bezpiecze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ń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stwo prac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rozwijanie zdoln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i zainteresow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ń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 (prace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manualne, zdoln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plastyczne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kszt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towanie estetyki wykonywanych prac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wdr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ż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anie do dbał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o ksi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ąż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motywowanie do samodzieln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, konsekwencji,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wytrwał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, dok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adn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i twórczych postaw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09480" y="5335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Cele operacyjne: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828800"/>
            <a:ext cx="80010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uczniów z projektem dotyczącym wyboru przyszłego zawodu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oznanie zasad funkcjonowania pracowni introligatorskiej na Warsztatach Terapii Zajęciowej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oznanie pracy drukarz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konserwacja i oprawianie zniszczonych książe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rodukcja opakowa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produkcja notesów i zeszytów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09480" y="5335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pierwszy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2743200"/>
            <a:ext cx="8305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tworzenie grup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się z poziomem i możliwościami uczniów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uczniów z głównymi celami projektu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Przeprowadzenie w szkole warsztatów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1295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rzygotowanie do projektu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drugi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836720"/>
            <a:ext cx="800100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oznanie pracowni introligatorskiej, zasad jej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funkcjonowania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integracja z uczestnikami warsztatów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z maszynami znajdującymi się w pracowni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interesowanie uczniów pracami introligatorskimi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rezentacja: Jak powstaje książka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klejanie zeszytów ze składe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amodzielne wykonywanie okładki na książkę: przycinanie,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klejanie, n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ładanie czcionki, zdobnictw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konserwacja i naprawa ksi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ąż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ek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295280"/>
            <a:ext cx="7925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45472"/>
                </a:solidFill>
                <a:latin typeface="Tahoma"/>
                <a:ea typeface="Times New Roman"/>
              </a:rPr>
              <a:t>Zaj</a:t>
            </a:r>
            <a:r>
              <a:rPr b="1" lang="en-US" sz="2200" spc="-1" strike="noStrike">
                <a:solidFill>
                  <a:srgbClr val="545472"/>
                </a:solidFill>
                <a:latin typeface="Tahoma"/>
              </a:rPr>
              <a:t>ę</a:t>
            </a:r>
            <a:r>
              <a:rPr b="1" lang="en-US" sz="2200" spc="-1" strike="noStrike">
                <a:solidFill>
                  <a:srgbClr val="545472"/>
                </a:solidFill>
                <a:latin typeface="Tahoma"/>
                <a:ea typeface="Times New Roman"/>
              </a:rPr>
              <a:t>cia w pracowni introligatorskiej –  I etap projektu</a:t>
            </a:r>
            <a:r>
              <a:rPr b="1" lang="en-US" sz="2200" spc="-1" strike="noStrike">
                <a:solidFill>
                  <a:srgbClr val="545472"/>
                </a:solidFill>
                <a:latin typeface="Tahoma"/>
                <a:ea typeface="Tahoma"/>
              </a:rPr>
              <a:t>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580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trzeci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2666880"/>
            <a:ext cx="8001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oprowadzenie uczniów po zakładzi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uczniów z zadaniami pracowników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zapoznanie z funkcjonowaniem i przeznaczeniem maszyn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12952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Zaj</a:t>
            </a:r>
            <a:r>
              <a:rPr b="1" lang="pl-PL" sz="2400" spc="-1" strike="noStrike">
                <a:solidFill>
                  <a:srgbClr val="545472"/>
                </a:solidFill>
                <a:latin typeface="Tahoma"/>
              </a:rPr>
              <a:t>ę</a:t>
            </a:r>
            <a:r>
              <a:rPr b="1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a prowadzone w drukarni Oldprint w </a:t>
            </a:r>
            <a:r>
              <a:rPr b="1" lang="pl-PL" sz="2400" spc="-1" strike="noStrike">
                <a:solidFill>
                  <a:srgbClr val="545472"/>
                </a:solidFill>
                <a:latin typeface="Tahoma"/>
              </a:rPr>
              <a:t>Ż</a:t>
            </a:r>
            <a:r>
              <a:rPr b="1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orach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czwarty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3048120"/>
            <a:ext cx="8001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rezentacja: Jak zrobić torebkę na prezenty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amodzielne wykonywanie opakowań na prezent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ozdabianie torebek w stylu zgodnym  z ich przeznaczeniem,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przy pełnym wykorzystaniu własnej inwencji twórczej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914400"/>
            <a:ext cx="7924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Prezent w efektownym opakowaniu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Zaj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ę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a przeprowadzane  w Zespole Szkó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ł n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r 8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–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II etap projektu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pi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ą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ty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2666880"/>
            <a:ext cx="8001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ahoma"/>
              </a:rPr>
              <a:t>wykonywanie zleconych prac introligatorskich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ahoma"/>
              </a:rPr>
              <a:t>wykonywanie notesów i zeszytów przy u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</a:rPr>
              <a:t>ż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ahoma"/>
              </a:rPr>
              <a:t>yciu gilotyny,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ahoma"/>
              </a:rPr>
              <a:t>bindownic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oprawianie i naprawa ksi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</a:rPr>
              <a:t>ąż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ek ze szkolnej biblioteki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99072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Szkolne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K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ó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ko Introligatorskie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–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II etap projektu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15:51:13Z</dcterms:created>
  <dc:creator>katyja</dc:creator>
  <dc:description/>
  <dc:language>en-US</dc:language>
  <cp:lastModifiedBy>g8</cp:lastModifiedBy>
  <dcterms:modified xsi:type="dcterms:W3CDTF">2004-11-19T09:29:40Z</dcterms:modified>
  <cp:revision>9</cp:revision>
  <dc:subject/>
  <dc:title>Prezentacja programu PowerPoint</dc:title>
</cp:coreProperties>
</file>