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F080-1F51-49BE-B543-950E568FD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3170-5756-4725-AB40-54451399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82DB-1BF6-46E4-902C-D72AE8BA0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14F6-37D2-45E6-B270-EC9C2C2E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B5ED-FBDA-4891-B8FD-C12852029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4A82-E3F2-41FD-9C51-44FFD303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708C-61E2-4837-A10F-F680450C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1B55-530E-4C7F-9A8E-873E87CC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E740-D2C1-4C15-81AF-52EECCB0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0575-8670-4825-A0D0-09DC2789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3E35-3603-48D1-A788-B6B75DE9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B5F3-675C-4564-8D29-6243502B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F474-6442-4516-BCB6-27E15C33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33B9-4921-44A2-8D51-9AC2BADF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D757-0997-48D7-B680-0CCBB25D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7EFE-3BE2-4709-9CCC-1858D241C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2969-C27B-4CDE-9E7D-68F05E31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3EAC-54F7-4A52-AFB7-D30D235A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926A-5475-40EA-9148-3E3DB368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E2AE-BC3C-48A4-B71A-CAECF67F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F135-3C1E-45F2-8747-FC907894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248F-AA12-4367-9048-3159B7A7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3840-6208-4C92-B5D9-FF61E2CD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37CA-966C-431B-BDCE-048E3962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E02A-4C89-417E-9825-5A7B0762F9F8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DD00-FBC0-4E01-ADCB-3BF79B537E1F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bcbcb"/>
                </a:solidFill>
                <a:latin typeface="Times New Roman"/>
              </a:rPr>
              <a:t>Program zapobiegania przemocy w środowisku szkolnym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Laurence Mousset-Libea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ICSH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– Institut de Criminologie et Sciences Humaines, Université Rennes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Katowice, 24.02.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Narzędz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Tabl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ica zachowań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krocze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aw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posłuszeństw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egulam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uprzejmość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Grupa społecz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Brak szacunk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sob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wg.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Villerbu LM, Bouchard C., Moisan T., (1997), in Charlot B.,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Emin C., Violences à l’école, Etat des savoirs, A. Colin é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M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tod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y prac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myślanie scenek sytuacyjnych w małych grupk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rzecznika w każdej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ygotowanie scenek sytuacyjnych w grup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scenki sytuacyjnej przez każdą podgrup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rzecznika w każdej pod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stawienie dwóch wymyślonych sytuacji na forum kla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yskusja na forum kla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orientowanie na zapobieganie, szukanie rozwiązań, mediacj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Oczekiwan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ązywanie problemu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czenie mediacj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nięcie znaczenia słowa „szacunek”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tworzenie spójnej grupy klasowe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zrost zaufania w osobie dorosłe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miana perspektywy postrzegania rzeczywistoś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kierunkowanie na dziecko, nie tylko na uczn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waluacja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acunek, poważanie ze strony ucznió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k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0-2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ventaire de Coopersmith® (ecpa édi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col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-program/col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-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wiad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ziewczęt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hłop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rodowisk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iejsk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rodowisko miejsk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R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zultaty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acunek do siebi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samoocenę dziewcząt w środowisku rodzin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samoocenę chłopców w środowisku szkol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mniejsza różnicę wśród chłopców pomiędzy tym jakimi „są” a jakimi „udają, że są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waluacja</a:t>
            </a: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odporność na stres wśród dorosłych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k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2-200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ISS® (ecpa éditio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rosłych uczestników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rosł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wiadków progra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ytanie subiektywne o poziom odczuwanego stres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R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zultaty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odporność na str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bniża poziom stresu emocjonalnego powodowanego stresującą sytuacją zawodow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trzymuje poziom stresu zawodowego powodowanego wykonywaną prac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zięki współpracy obniża stres powodowany sytuacją zawodow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ziom odczuwanego stres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y ten program prewencji spowodował obniżenie stresu zawodowego? (62 odpowiedz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0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 odczuwam stres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6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 potrafię odpowiedzieć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6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8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t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onkluzj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poczucie własnej wartości wśród dziewcząt i chłopc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zwala na lepsze panowanie nad stresem powodowanym sytuacją zawodową wśród dorosł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przyja pracy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zwala dzieciom na lepsze rozumienie własnych zachowa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spiera rozwiązywanie problemów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ja strategie mediacyj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dtrzymuje zaangażowanie każdego uczestnika  przez cały rok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zostałe zauważone efekty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Polepszenie atmosfery w klasi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padek liczby uczniów powtarzających klas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Wzrost samodzielności wśród uczni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Lepsza współpraca instytucjonal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kuteczniejsze stosowanie wewnętrznych przepis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rogram wspomagany przez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rtement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rtement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yrekcja zdrowia i spraw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rajowa Federacja Ubezpieczeń Wzajemn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FNMF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utualité française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dzór Akademicki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utuelle Générale de l’Education Nationa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encja w środowisku szkolny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Ados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olejno w lata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2000-2001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raz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2-2003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Perspe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tyw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Rozwój działań na poziomie departamentalnym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szkolenia dla trenerów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ogram wybrany w ramach konkursu ogłoszonego przez Ministerstwo ds. Rodzin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opozycja zgłoszenia do programu europejskiego walki z przemocą DAPHNE I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Zalecenia  dot. zapobiegan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lan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działani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definiowanie konkretnych cel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walifikacja poziomu prewencji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I, II, III –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H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tworzenie odpowiednich narzędzi ewaluacj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rzalność osiągniętych cel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eorientacja strategii prewencyjne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Zalecenia w środowisku szkolnym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Uzyskanie zgody władz placówk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łączenie do współpracy grona pedagogicznego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weryfikowanie motywacji grona pedagogiczneg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oinformowanie rodziców o prowadzonych działaniach prewencyjny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Dostosowanie podejmowanych działań do wieku ucznió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Unikanie jednorazowych interwencj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spomaganie działań rozłożonych w czas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astosowanie gier i zabaw interaktywny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D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wie fazy projekt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cc"/>
                </a:solidFill>
                <a:latin typeface="Times New Roman"/>
              </a:rPr>
              <a:t>Sarth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1998-1999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olleg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10-12 a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zkoła podstawow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8 –10 a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wierdzenie ewaluacji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ffcc"/>
                </a:solidFill>
                <a:latin typeface="Times New Roman"/>
              </a:rPr>
              <a:t>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pracy w college’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2000-2001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2002-2003)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429000"/>
            <a:ext cx="152280" cy="914400"/>
          </a:xfrm>
          <a:prstGeom prst="downArrow">
            <a:avLst>
              <a:gd name="adj1" fmla="val 50000"/>
              <a:gd name="adj2" fmla="val 150118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495288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Zawartość program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ni szkoleniowych wśród grona pedagogicznego college’u (nauczycieli, pedagogów szkolnych, psychologa szkolnego, lekarza, pielęgniarki, pracownika socjalneg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…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 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ów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agogi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zn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 udziałem uczniów, prowadzone przez 2 osoby dorosłe, które ukończyły szkole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aluacje naukowe w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1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raz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koleni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1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miejętność słuchania i rozmowy z dzieckiem czyli jak prowadzić z szacunkiem rozmowę bez względu na powód rozmow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2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Nasze postrzeganie rzeczywistości poprzez pryzmat codziennej sytuacji zawodowej, instytucja i różne formy przemo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3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ygotowanie zajęć pedagogicznych z uczniam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4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jrzewanie, akty przemocy, syndrom dziecka maltretowanego, przemoc na tle seksual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5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aluacja oraz utworzenie grup edukacyj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S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tkania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p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dagogi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czn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1 : tab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ca zachowań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wśród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3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wśród dorosł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4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dorosłych wobec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5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na tle seksualnym dorosłych wobec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aca interaktywna na bazie wymyślonych scenek sytuacyj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Jasno określone reguły dotyczące przebiegu spotkań (nie kpić, słuchać innych, akceptować zdanie inny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alendarz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zebieg programu podczas trwania roku szkolne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4267080"/>
            <a:ext cx="6400800" cy="486000"/>
          </a:xfrm>
          <a:prstGeom prst="rightArrow">
            <a:avLst>
              <a:gd name="adj1" fmla="val 36602"/>
              <a:gd name="adj2" fmla="val 54145"/>
            </a:avLst>
          </a:prstGeom>
          <a:gradFill rotWithShape="0">
            <a:gsLst>
              <a:gs pos="0">
                <a:srgbClr val="00ffcc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405080" y="4581360"/>
            <a:ext cx="6163560" cy="337320"/>
            <a:chOff x="1405080" y="4581360"/>
            <a:chExt cx="6163560" cy="337320"/>
          </a:xfrm>
        </p:grpSpPr>
        <p:sp>
          <p:nvSpPr>
            <p:cNvPr id="114" name=""/>
            <p:cNvSpPr/>
            <p:nvPr/>
          </p:nvSpPr>
          <p:spPr>
            <a:xfrm>
              <a:off x="140508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31400" y="4581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9264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8080" y="458136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59400" y="45813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90120" y="4581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28680" y="45813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2304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82840" y="4581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3256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39520" y="458136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523880" y="3048120"/>
            <a:ext cx="2438640" cy="228600"/>
          </a:xfrm>
          <a:prstGeom prst="flowChartProcess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Szkolen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3429000"/>
            <a:ext cx="2819520" cy="304920"/>
          </a:xfrm>
          <a:prstGeom prst="flowChartProcess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potkania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edagogicz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3962520"/>
            <a:ext cx="1219320" cy="22860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aluac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8T14:42:17Z</dcterms:created>
  <dc:creator>Clinique Criminologique et Psychopathologique</dc:creator>
  <dc:description/>
  <dc:language>en-US</dc:language>
  <cp:lastModifiedBy>Basia_S</cp:lastModifiedBy>
  <dcterms:modified xsi:type="dcterms:W3CDTF">2005-02-15T16:16:53Z</dcterms:modified>
  <cp:revision>55</cp:revision>
  <dc:subject/>
  <dc:title>Présentation générale du projet</dc:title>
</cp:coreProperties>
</file>