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53D-BB03-40AD-8A68-1D9BE06D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DB7-B5B2-449A-8BD1-708AFD0A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BFA-5478-4081-AB66-BAAA4F8B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C3CC-DA82-4F9F-A54C-3C6CADC8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2801-A196-4DA5-9018-3595CB61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FE1E-B3C6-4FE7-BA89-C00D5B15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E5D4-DA13-49DC-BBCC-F5E1EE97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AF7-331C-450C-BAF8-C9EBB3E4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CAA6-DB01-42AD-A746-EA783309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4648-6D73-4AEF-9777-D330A55C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057-4A70-4B1C-A65B-0CDF2006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002A-E644-4938-9B6E-4CC49416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7FD1-F8EA-48F4-ACE4-4AB159BFE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 orientacji zawodowej uczniów z lekkim upośledzeniem umysłowym w kontekście przeobrażeń gospodarczych, społecznych i kulturowych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715920"/>
            <a:ext cx="7920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prowad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kształcenia specjalnego w Pol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tuacja społeczna osób z lekkim upośledzeniem umysłow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 orientacji zawod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ja zawodowa a wybór zaw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kluzja końc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47628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non Gajdz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niwersytet Śląski, Filia w Cieszy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27640" y="404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USCIEZN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297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kształcenia specjalnego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polskim szkolnym systemie kształcenia specjalnego można wyróżnić następujące for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reg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zkoły specjal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ęściowo segreg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klasy specjalne przy szkołach ogólnodostępnych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w jej obręb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cyjną instytucjonaln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klasy integracyjne przy szkołach ogólnodostępnych, szkoły integracyj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cyjną naturaln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dywidualne kształcenie w klasie ogólnodostępnej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uczania indywidualn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ndywidualne kształcenie, najczęściej w domu uczn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orientacji zawodowej uczniów z lekki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ośledzeni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mysłow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całokształcie przygotowania zawodowego uczniów lekko upośledzonych umysłowo można wyróżnić trzy podstawowe okres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orientacja zawodowa prowadzona w szkole podstaw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ja zawodowa prowadzona w gimnazju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uka zawodu prowadzona w szkołach zawod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dania preorientacji i orientacji zawodowej w kształceniu dzieci i młodzieży lekko upośledzonej umysłowo można podzielić na sfer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chowawcz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yjn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wijanie zainteresowań i uzdolnień w zajęciach pozalekcyj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półpracę z rodzic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anty ograniczające wybór zawodu przez uczniów z lekkim upośledzeniem umysłow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burzenia charakteryzujące rozwój i funkcjonowanie społecz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kazania bądź przeciwskazania lekarz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ferta kształcenia w miejscu zamieszka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jęcie praktyki zawodowe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alne możliwości zdobycia posad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interesowania – zamiłowania ucz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7:40:00Z</dcterms:created>
  <dc:creator>n.n.</dc:creator>
  <dc:description/>
  <dc:language>en-US</dc:language>
  <cp:lastModifiedBy>n.n.</cp:lastModifiedBy>
  <dcterms:modified xsi:type="dcterms:W3CDTF">2004-11-18T19:11:35Z</dcterms:modified>
  <cp:revision>2</cp:revision>
  <dc:subject/>
  <dc:title>Proces orientacji zawodowej uczniów z lekkim upośledzeniem umysłowym w kontekście przeobrażeń gospodarczych, społecznych i kulturowych w Polsce</dc:title>
</cp:coreProperties>
</file>